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wmf" ContentType="image/x-wmf"/>
  <Override PartName="/ppt/media/image9.gif" ContentType="image/gif"/>
  <Override PartName="/ppt/media/image8.gif" ContentType="image/gif"/>
  <Override PartName="/ppt/media/image12.wmf" ContentType="image/x-wmf"/>
  <Override PartName="/ppt/media/image7.wmf" ContentType="image/x-wmf"/>
  <Override PartName="/ppt/media/image19.gif" ContentType="image/gif"/>
  <Override PartName="/ppt/media/image4.wmf" ContentType="image/x-wmf"/>
  <Override PartName="/ppt/media/applause.wav" ContentType="audio/x-wav"/>
  <Override PartName="/ppt/media/image15.wmf" ContentType="image/x-wmf"/>
  <Override PartName="/ppt/media/image16.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8.wmf" ContentType="image/x-wmf"/>
  <Override PartName="/ppt/media/image5.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973320" y="0"/>
            <a:ext cx="30366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move the slide</a:t>
            </a:r>
            <a:endParaRPr b="0" lang="en-US" sz="5400" spc="-1" strike="noStrike">
              <a:solidFill>
                <a:srgbClr val="ffffcc"/>
              </a:solidFill>
              <a:latin typeface="Arial"/>
            </a:endParaRPr>
          </a:p>
        </p:txBody>
      </p:sp>
      <p:sp>
        <p:nvSpPr>
          <p:cNvPr id="16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8"/>
          </p:nvPr>
        </p:nvSpPr>
        <p:spPr>
          <a:xfrm>
            <a:off x="0" y="8831160"/>
            <a:ext cx="3036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61784A-6CEA-41A8-8FAD-D24DA020A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 </a:t>
            </a:r>
            <a:r>
              <a:rPr b="0" lang="en-US" sz="1400" spc="-1" strike="noStrike">
                <a:solidFill>
                  <a:srgbClr val="000000"/>
                </a:solidFill>
                <a:latin typeface="Comic Sans MS"/>
              </a:rPr>
              <a:t>backward mapping to show the relationship between teaching behaviors and student learning. Use model of ice cream cone to the forehead…adjustm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students---no matter how you were taught, most of us in a teacher centered class…the students have to be demonstrating their learning for us to “see” if the learning is taking place.   </a:t>
            </a:r>
            <a:r>
              <a:rPr b="1" lang="en-US" sz="1400" spc="-1" strike="noStrike">
                <a:solidFill>
                  <a:srgbClr val="000000"/>
                </a:solidFill>
                <a:latin typeface="Comic Sans MS"/>
              </a:rPr>
              <a:t>Pink (Student behav) </a:t>
            </a:r>
            <a:r>
              <a:rPr b="0" lang="en-US" sz="1400" spc="-1" strike="noStrike">
                <a:solidFill>
                  <a:srgbClr val="000000"/>
                </a:solidFill>
                <a:latin typeface="Comic Sans MS"/>
              </a:rPr>
              <a:t>sheet—read first—what do all the questions have in common?</a:t>
            </a:r>
            <a:r>
              <a:rPr b="1" lang="en-US" sz="1400" spc="-1" strike="noStrike">
                <a:solidFill>
                  <a:srgbClr val="000000"/>
                </a:solidFill>
                <a:latin typeface="Comic Sans MS"/>
              </a:rPr>
              <a:t> Partner—Look for evidence/demonstration/activ engagemen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deo- Look at what students are doing—.</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w, look at</a:t>
            </a:r>
            <a:r>
              <a:rPr b="1" lang="en-US" sz="1400" spc="-1" strike="noStrike">
                <a:solidFill>
                  <a:srgbClr val="000000"/>
                </a:solidFill>
                <a:latin typeface="Comic Sans MS"/>
              </a:rPr>
              <a:t> Teaching behaviors?  Student learning occurs as a result of teacher behavior.  Input&gt;&gt;&gt;&gt;Output  (Cause&gt;&gt;&gt;effect)</a:t>
            </a:r>
            <a:r>
              <a:rPr b="0" lang="en-US" sz="1400" spc="-1" strike="noStrike">
                <a:solidFill>
                  <a:srgbClr val="000000"/>
                </a:solidFill>
                <a:latin typeface="Comic Sans MS"/>
              </a:rPr>
              <a:t> it the teacher did to “cause” the students to reach the objective&gt; Look at the blue sheet.  An observer has come into this teacher’s class and is asking those ques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ve to the Pacing Guide/Standards/Outcom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s </a:t>
            </a:r>
            <a:r>
              <a:rPr b="0" lang="en-US" sz="1400" spc="-1" strike="noStrike">
                <a:solidFill>
                  <a:srgbClr val="000000"/>
                </a:solidFill>
                <a:latin typeface="Comic Sans MS"/>
              </a:rPr>
              <a:t>are statements of student outcomes in a lesson or unit.  Well written objectives explain what the students will accomplish as the result of the lesson or unit.  </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y also imply assessment - the teacher needs to write objectives so that the student outcome is clearly stated and is observable or measureable by the teacher, student and/or other students.  Objectives generally fall into three domains:  psychomotor, cognitive and  affectiv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What /Why—do the pacing guide hunt</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ching Outcomes w/ EOLAs –Use Pacing Guid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lk Board Paper/Activity– </a:t>
            </a:r>
            <a:r>
              <a:rPr b="1" lang="en-US" sz="1400" spc="-1" strike="noStrike">
                <a:solidFill>
                  <a:srgbClr val="000000"/>
                </a:solidFill>
                <a:latin typeface="Comic Sans MS"/>
              </a:rPr>
              <a:t>Partner -1</a:t>
            </a:r>
            <a:r>
              <a:rPr b="1" lang="en-US" sz="1400" spc="-1" strike="noStrike" baseline="30000">
                <a:solidFill>
                  <a:srgbClr val="000000"/>
                </a:solidFill>
                <a:latin typeface="Comic Sans MS"/>
              </a:rPr>
              <a:t>st</a:t>
            </a:r>
            <a:r>
              <a:rPr b="1" lang="en-US" sz="1400" spc="-1" strike="noStrike">
                <a:solidFill>
                  <a:srgbClr val="000000"/>
                </a:solidFill>
                <a:latin typeface="Comic Sans MS"/>
              </a:rPr>
              <a:t> base</a:t>
            </a:r>
            <a:r>
              <a:rPr b="0" lang="en-US" sz="1400" spc="-1" strike="noStrike">
                <a:solidFill>
                  <a:srgbClr val="000000"/>
                </a:solidFill>
                <a:latin typeface="Comic Sans MS"/>
              </a:rPr>
              <a:t>)—Write an outcome.  Now, pass to the left&gt;&gt;&gt;second group writes an EOLA.  Now,  pass to left again&gt;&gt;third group check for a match/alignment/or makes improvement.</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marL="2286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k for an item from each participant.  On a table in front have participants organize the items.  Others should try to guess how the items were organized.  Schema/schemata-brain is always trying to organize…once it learns the how…it tries to replicate…next person, next pers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 “Hunt”  what did we want you to know?  How did we organize it so you would be aware of the organizational structure and key compon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text –Give 5 full minutes… Now (with your Like language-3</a:t>
            </a:r>
            <a:r>
              <a:rPr b="0" lang="en-US" sz="1400" spc="-1" strike="noStrike" baseline="30000">
                <a:solidFill>
                  <a:srgbClr val="000000"/>
                </a:solidFill>
                <a:latin typeface="Comic Sans MS"/>
              </a:rPr>
              <a:t>rd</a:t>
            </a:r>
            <a:r>
              <a:rPr b="0" lang="en-US" sz="1400" spc="-1" strike="noStrike">
                <a:solidFill>
                  <a:srgbClr val="000000"/>
                </a:solidFill>
                <a:latin typeface="Comic Sans MS"/>
              </a:rPr>
              <a:t> Base buddy) create own textbook hunt -5 sentences/questions that will help students understand the format of the text---they can help themselv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shops--Distribute calendar for the first semester.</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for Text book—time in 1</a:t>
            </a:r>
            <a:r>
              <a:rPr b="0" lang="en-US" sz="1400" spc="-1" strike="noStrike" baseline="30000">
                <a:solidFill>
                  <a:srgbClr val="000000"/>
                </a:solidFill>
                <a:latin typeface="Comic Sans MS"/>
              </a:rPr>
              <a:t>st</a:t>
            </a:r>
            <a:r>
              <a:rPr b="0" lang="en-US" sz="1400" spc="-1" strike="noStrike">
                <a:solidFill>
                  <a:srgbClr val="000000"/>
                </a:solidFill>
                <a:latin typeface="Comic Sans MS"/>
              </a:rPr>
              <a:t> session or after Champ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2:30 to 1:00 period---have participants make an outcome from a thematic topic given.   Next have pairs/groups make an assessment based on the outcome?</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do the Alphabet Soup!</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nal Reflection</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ssions are 4:40-6:30 p.m.;  a stipend of $25/hour; topics chosen by new teachers and observers;  includes all non-tenured teachers;  dinner meetin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ll globe and “add on” activity.  When I think about effective instructional planning I…student-centered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mbitious schedule---Modeling for you</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flection—one of the most valuable tools you can teach your students is to think about how they are learning and what tools they need to learn.  Teach them how to unpack their learning.</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73320" y="8831160"/>
            <a:ext cx="30366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256AE3-84C5-4013-8740-87D545901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0" y="883116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973320" y="0"/>
            <a:ext cx="30366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a:t>
            </a:r>
            <a:r>
              <a:rPr b="0" lang="en-US" sz="1200" spc="-1" strike="noStrike">
                <a:solidFill>
                  <a:srgbClr val="000000"/>
                </a:solidFill>
                <a:latin typeface="Times New Roman"/>
              </a:rPr>
              <a:t>are statements of student outcomes in a lesson or unit.  Well written objectives explain what the students will accomplish as the result of the lesson or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ere (at the end of an activity or class or topic) I, as the teacher/facilitator  proof that you can have accomplished these objectives…or I need evidence that shows where you as the student are on the road to understanding the object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 begin the morning, I will introduce myself in German (Ich bin) show the 2 slides demo-ing Ich and Du---now begin with myself, “Ich bin Linda”—to Francie –Wer bist du?  Freeze the activity and have teachers reflect on wha is happening and what is going to happe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VE TIME to REFLECT ON ACTIVIT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vestigating the binder…Items in the bind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hat constitutes a teacher?  Where is the hear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ab –Introducti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Journal—Reflec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VSC—2-3 minutes to search for verbs in indicators/objectives= outcom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iculum- Rubric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ources—Course Outlines and Sample Action Verb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ther Paired Practice ( 3</a:t>
            </a:r>
            <a:r>
              <a:rPr b="0" lang="en-US" sz="1400" spc="-1" strike="noStrike" baseline="30000">
                <a:solidFill>
                  <a:srgbClr val="000000"/>
                </a:solidFill>
                <a:latin typeface="Comic Sans MS"/>
              </a:rPr>
              <a:t>rd</a:t>
            </a:r>
            <a:r>
              <a:rPr b="0" lang="en-US" sz="1400" spc="-1" strike="noStrike">
                <a:solidFill>
                  <a:srgbClr val="000000"/>
                </a:solidFill>
                <a:latin typeface="Comic Sans MS"/>
              </a:rPr>
              <a:t>(same lang) partn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61760" y="4419720"/>
            <a:ext cx="5562360" cy="417960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paration for student arrival- cannot overemphasiz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ating charts—Pass around the SAMPLE seating arrangement binder</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om arrangements- What is the purpose of “straight rows”?</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isual spac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rder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se outlines—Give samples –try to link w/level/course and teacher----rules, procedures, grading polic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ality of this document.---Level 1 Middle sch/credi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xts—distribution, care of, property receip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nguage activities first day….introductions, day, date, numbers, alphabet…potpourri…immerse in </a:t>
            </a:r>
            <a:r>
              <a:rPr b="1" lang="en-US" sz="1400" spc="-1" strike="noStrike">
                <a:solidFill>
                  <a:srgbClr val="000000"/>
                </a:solidFill>
                <a:latin typeface="Comic Sans MS"/>
              </a:rPr>
              <a:t>small chunk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before Lun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73320" y="8831160"/>
            <a:ext cx="30366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BC1823-7CC7-4B71-9123-E8F250E10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0" y="883116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973320" y="0"/>
            <a:ext cx="30366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60AC6-43C1-4369-86BB-34E5282EE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3362-77A0-4ECD-827F-AEB771600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5A029-FCC3-4E3A-A955-9AA8FD341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EAD13-1940-4C76-800B-7302A62D0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D6BCF-FCA8-4ACC-9197-02362D466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F6B2A-4852-4014-8BA2-8DC02E5B2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EFC51-1EA8-4286-AFB3-3F1F72CDA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6315D-5DFF-4396-8F44-3679FA64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6849E-BBB6-401B-8CB8-BC21EF4A3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7248F-1810-4938-BB8E-75DA6E78A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50E61-E5E2-44FA-8057-348300DC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6DF7B-13EA-4706-B4F4-8754C862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ABFE-C7D4-44B7-A24A-B8E023914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73E06-4A87-4587-91AD-2F0C3CCE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8A1AD-D606-4E5B-BE21-F54B58EC7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3105A-952A-4573-BE1D-B3B35EC26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067A5-342A-45ED-9ED8-1C292E197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EE32-AA5B-4081-BC05-26B1DC29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61B6E-8A9B-45B5-8D8C-17415C39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20A89-D09C-45FF-9112-CCBEDB5A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B69C-C210-4801-A4F5-E7A9D7EA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A94F-D0E4-4AB1-92D7-893A9F369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F196-2907-4C24-8190-311393EF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0257-1ECC-49B5-A3FB-F6DD11007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8E96-0A3D-4E0C-984E-07D471D0FE6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0C37-FEE3-4CBD-8634-AEAD2800A37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C:/../../Temporary%20Internet%20Files/OLK7E/New%20teacher%20orientation%208%2014-15%2007%20ljs.ppt" TargetMode="External"/><Relationship Id="rId2" Type="http://schemas.openxmlformats.org/officeDocument/2006/relationships/hyperlink" Target="http://www.learner.org/resources/series185.html"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w Teacher Orientation</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ugust 14-15, 2007</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ld Mill High School</a:t>
            </a:r>
            <a:endParaRPr b="0" lang="en-US" sz="3200" spc="-1" strike="noStrike">
              <a:solidFill>
                <a:srgbClr val="ffffff"/>
              </a:solidFill>
              <a:latin typeface="Verdana"/>
            </a:endParaRPr>
          </a:p>
        </p:txBody>
      </p:sp>
      <p:pic>
        <p:nvPicPr>
          <p:cNvPr id="164" name="" descr=""/>
          <p:cNvPicPr/>
          <p:nvPr/>
        </p:nvPicPr>
        <p:blipFill>
          <a:blip r:embed="rId1"/>
          <a:stretch/>
        </p:blipFill>
        <p:spPr>
          <a:xfrm>
            <a:off x="533520" y="304920"/>
            <a:ext cx="2835000" cy="2906640"/>
          </a:xfrm>
          <a:prstGeom prst="rect">
            <a:avLst/>
          </a:prstGeom>
          <a:ln w="0">
            <a:noFill/>
          </a:ln>
        </p:spPr>
      </p:pic>
      <p:pic>
        <p:nvPicPr>
          <p:cNvPr id="165" name="" descr=""/>
          <p:cNvPicPr/>
          <p:nvPr/>
        </p:nvPicPr>
        <p:blipFill>
          <a:blip r:embed="rId2"/>
          <a:stretch/>
        </p:blipFill>
        <p:spPr>
          <a:xfrm>
            <a:off x="6400800" y="2666880"/>
            <a:ext cx="1771560" cy="1444680"/>
          </a:xfrm>
          <a:prstGeom prst="rect">
            <a:avLst/>
          </a:prstGeom>
          <a:ln w="0">
            <a:noFill/>
          </a:ln>
        </p:spPr>
      </p:pic>
      <p:pic>
        <p:nvPicPr>
          <p:cNvPr id="166" name="" descr=""/>
          <p:cNvPicPr/>
          <p:nvPr/>
        </p:nvPicPr>
        <p:blipFill>
          <a:blip r:embed="rId3"/>
          <a:stretch/>
        </p:blipFill>
        <p:spPr>
          <a:xfrm>
            <a:off x="4038480" y="914400"/>
            <a:ext cx="3657600" cy="826920"/>
          </a:xfrm>
          <a:prstGeom prst="rect">
            <a:avLst/>
          </a:prstGeom>
          <a:ln w="0">
            <a:noFill/>
          </a:ln>
        </p:spPr>
      </p:pic>
      <p:pic>
        <p:nvPicPr>
          <p:cNvPr id="167" name="" descr=""/>
          <p:cNvPicPr/>
          <p:nvPr/>
        </p:nvPicPr>
        <p:blipFill>
          <a:blip r:embed="rId4"/>
          <a:stretch/>
        </p:blipFill>
        <p:spPr>
          <a:xfrm>
            <a:off x="2362320" y="3048120"/>
            <a:ext cx="3273480" cy="1001520"/>
          </a:xfrm>
          <a:prstGeom prst="rect">
            <a:avLst/>
          </a:prstGeom>
          <a:ln w="0">
            <a:noFill/>
          </a:ln>
        </p:spPr>
      </p:pic>
      <p:pic>
        <p:nvPicPr>
          <p:cNvPr id="168" name="" descr=""/>
          <p:cNvPicPr/>
          <p:nvPr/>
        </p:nvPicPr>
        <p:blipFill>
          <a:blip r:embed="rId5"/>
          <a:stretch/>
        </p:blipFill>
        <p:spPr>
          <a:xfrm>
            <a:off x="6934320" y="5213520"/>
            <a:ext cx="198108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Tuesday,14 August</a:t>
            </a:r>
            <a:br>
              <a:rPr sz="4000"/>
            </a:br>
            <a:r>
              <a:rPr b="0" lang="en-US" sz="4000" spc="-1" strike="noStrike">
                <a:solidFill>
                  <a:srgbClr val="ffffcc"/>
                </a:solidFill>
                <a:latin typeface="Arial"/>
              </a:rPr>
              <a:t> PM Agenda </a:t>
            </a:r>
            <a:endParaRPr b="0" lang="en-US" sz="4000" spc="-1" strike="noStrike">
              <a:solidFill>
                <a:srgbClr val="ffffcc"/>
              </a:solidFill>
              <a:latin typeface="Arial"/>
            </a:endParaRPr>
          </a:p>
        </p:txBody>
      </p:sp>
      <p:sp>
        <p:nvSpPr>
          <p:cNvPr id="202" name="PlaceHolder 2"/>
          <p:cNvSpPr>
            <a:spLocks noGrp="1"/>
          </p:cNvSpPr>
          <p:nvPr>
            <p:ph/>
          </p:nvPr>
        </p:nvSpPr>
        <p:spPr>
          <a:xfrm>
            <a:off x="228600" y="1600200"/>
            <a:ext cx="8763120" cy="495288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cus on Learning---12:30-3:15</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on Planning—Cause/effect theor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1 </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cing and Alignment Guide (PAG)</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tandards / Outcome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tching Outcomes w/ EOLA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2 –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mplete/turn in</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3" name="">
            <a:hlinkClick r:id="rId1"/>
          </p:cNvPr>
          <p:cNvSpPr/>
          <p:nvPr/>
        </p:nvSpPr>
        <p:spPr>
          <a:xfrm>
            <a:off x="1831320" y="3246480"/>
            <a:ext cx="5482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a:t>
            </a:r>
            <a:r>
              <a:rPr b="0" lang="en-US" sz="1800" spc="-1" strike="noStrike" u="sng">
                <a:solidFill>
                  <a:srgbClr val="fadf6c"/>
                </a:solidFill>
                <a:uFillTx/>
                <a:latin typeface="Verdana"/>
                <a:hlinkClick r:id="rId2"/>
              </a:rPr>
              <a:t>www.learner.org/resources/series185.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4" name=""/>
          <p:cNvSpPr/>
          <p:nvPr/>
        </p:nvSpPr>
        <p:spPr>
          <a:xfrm>
            <a:off x="1828800" y="1066680"/>
            <a:ext cx="49528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igi"/>
              </a:rPr>
              <a:t>We have a responsibility to teach students how to achieve.</a:t>
            </a:r>
            <a:endParaRPr b="0" lang="en-US" sz="6000" spc="-1" strike="noStrike">
              <a:solidFill>
                <a:srgbClr val="ffffff"/>
              </a:solidFill>
              <a:latin typeface="Times New Roman"/>
            </a:endParaRPr>
          </a:p>
        </p:txBody>
      </p:sp>
      <p:sp>
        <p:nvSpPr>
          <p:cNvPr id="205"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hip Conferen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
          <p:cNvSpPr/>
          <p:nvPr/>
        </p:nvSpPr>
        <p:spPr>
          <a:xfrm>
            <a:off x="1495440" y="896760"/>
            <a:ext cx="69627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We</a:t>
            </a:r>
            <a:r>
              <a:rPr b="1" lang="en-US" sz="4000" spc="-1" strike="noStrike">
                <a:solidFill>
                  <a:srgbClr val="ffffff"/>
                </a:solidFill>
                <a:latin typeface="Lucida Calligraphy"/>
              </a:rPr>
              <a:t> must</a:t>
            </a:r>
            <a:r>
              <a:rPr b="0" lang="en-US" sz="4000" spc="-1" strike="noStrike">
                <a:solidFill>
                  <a:srgbClr val="ffffff"/>
                </a:solidFill>
                <a:latin typeface="Lucida Calligraphy"/>
              </a:rPr>
              <a:t> find a way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to get past the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a:t>
            </a:r>
            <a:r>
              <a:rPr b="0" lang="en-US" sz="4000" spc="-1" strike="noStrike">
                <a:solidFill>
                  <a:srgbClr val="ffffff"/>
                </a:solidFill>
                <a:latin typeface="Lucida Calligraphy"/>
              </a:rPr>
              <a:t>look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color, and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image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to bring out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the best</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in our students.</a:t>
            </a:r>
            <a:endParaRPr b="0" lang="en-US" sz="4000" spc="-1" strike="noStrike">
              <a:solidFill>
                <a:srgbClr val="ffffff"/>
              </a:solidFill>
              <a:latin typeface="Times New Roman"/>
            </a:endParaRPr>
          </a:p>
        </p:txBody>
      </p:sp>
      <p:pic>
        <p:nvPicPr>
          <p:cNvPr id="207" name="" descr=""/>
          <p:cNvPicPr/>
          <p:nvPr/>
        </p:nvPicPr>
        <p:blipFill>
          <a:blip r:embed="rId1"/>
          <a:stretch/>
        </p:blipFill>
        <p:spPr>
          <a:xfrm>
            <a:off x="304920" y="4876920"/>
            <a:ext cx="1874880" cy="1666800"/>
          </a:xfrm>
          <a:prstGeom prst="rect">
            <a:avLst/>
          </a:prstGeom>
          <a:ln w="0">
            <a:noFill/>
          </a:ln>
        </p:spPr>
      </p:pic>
      <p:pic>
        <p:nvPicPr>
          <p:cNvPr id="208" name="" descr=""/>
          <p:cNvPicPr/>
          <p:nvPr/>
        </p:nvPicPr>
        <p:blipFill>
          <a:blip r:embed="rId2"/>
          <a:stretch/>
        </p:blipFill>
        <p:spPr>
          <a:xfrm>
            <a:off x="380880" y="2819520"/>
            <a:ext cx="1825920" cy="1488960"/>
          </a:xfrm>
          <a:prstGeom prst="rect">
            <a:avLst/>
          </a:prstGeom>
          <a:ln w="0">
            <a:noFill/>
          </a:ln>
        </p:spPr>
      </p:pic>
      <p:pic>
        <p:nvPicPr>
          <p:cNvPr id="209" name="" descr=""/>
          <p:cNvPicPr/>
          <p:nvPr/>
        </p:nvPicPr>
        <p:blipFill>
          <a:blip r:embed="rId3"/>
          <a:stretch/>
        </p:blipFill>
        <p:spPr>
          <a:xfrm>
            <a:off x="138240" y="457200"/>
            <a:ext cx="166500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icipant Outcomes </a:t>
            </a:r>
            <a:br>
              <a:rPr sz="4000"/>
            </a:br>
            <a:r>
              <a:rPr b="0" lang="en-US" sz="4000" spc="-1" strike="noStrike">
                <a:solidFill>
                  <a:srgbClr val="ffffcc"/>
                </a:solidFill>
                <a:latin typeface="Arial"/>
              </a:rPr>
              <a:t>Wednesday, 15 August  Session</a:t>
            </a:r>
            <a:endParaRPr b="0" lang="en-US" sz="4000" spc="-1" strike="noStrike">
              <a:solidFill>
                <a:srgbClr val="ffffcc"/>
              </a:solidFill>
              <a:latin typeface="Arial"/>
            </a:endParaRPr>
          </a:p>
        </p:txBody>
      </p:sp>
      <p:sp>
        <p:nvSpPr>
          <p:cNvPr id="211" name="PlaceHolder 2"/>
          <p:cNvSpPr>
            <a:spLocks noGrp="1"/>
          </p:cNvSpPr>
          <p:nvPr>
            <p:ph/>
          </p:nvPr>
        </p:nvSpPr>
        <p:spPr>
          <a:xfrm>
            <a:off x="456840" y="1599840"/>
            <a:ext cx="51814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materials of instruction and determine their importance in effective lesson planning.</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listening to the panel discussion, list areas of strength and areas where you feel you need support. </a:t>
            </a:r>
            <a:endParaRPr b="0" lang="en-US" sz="2800" spc="-1" strike="noStrike">
              <a:solidFill>
                <a:srgbClr val="ffffff"/>
              </a:solidFill>
              <a:latin typeface="Verdana"/>
            </a:endParaRPr>
          </a:p>
        </p:txBody>
      </p:sp>
      <p:pic>
        <p:nvPicPr>
          <p:cNvPr id="212" name="" descr=""/>
          <p:cNvPicPr/>
          <p:nvPr/>
        </p:nvPicPr>
        <p:blipFill>
          <a:blip r:embed="rId1"/>
          <a:stretch/>
        </p:blipFill>
        <p:spPr>
          <a:xfrm>
            <a:off x="6400800" y="2514600"/>
            <a:ext cx="3809880" cy="2865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11">
                                            <p:txEl>
                                              <p:pRg st="1" end="1"/>
                                            </p:txEl>
                                          </p:spTgt>
                                        </p:tgtEl>
                                        <p:attrNameLst>
                                          <p:attrName>style.visibility</p:attrName>
                                        </p:attrNameLst>
                                      </p:cBhvr>
                                      <p:to>
                                        <p:strVal val="visible"/>
                                      </p:to>
                                    </p:set>
                                    <p:animEffect filter="checkerboard(across)" transition="in">
                                      <p:cBhvr additive="repl">
                                        <p:cTn id="23" dur="500"/>
                                        <p:tgtEl>
                                          <p:spTgt spid="21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11">
                                            <p:txEl>
                                              <p:pRg st="3" end="3"/>
                                            </p:txEl>
                                          </p:spTgt>
                                        </p:tgtEl>
                                        <p:attrNameLst>
                                          <p:attrName>style.visibility</p:attrName>
                                        </p:attrNameLst>
                                      </p:cBhvr>
                                      <p:to>
                                        <p:strVal val="visible"/>
                                      </p:to>
                                    </p:set>
                                    <p:animEffect filter="checkerboard(across)" transition="in">
                                      <p:cBhvr additive="repl">
                                        <p:cTn id="28" dur="500"/>
                                        <p:tgtEl>
                                          <p:spTgt spid="211">
                                            <p:txEl>
                                              <p:pRg st="3" end="3"/>
                                            </p:txEl>
                                          </p:spTgt>
                                        </p:tgtEl>
                                      </p:cBhvr>
                                    </p:animEffect>
                                  </p:childTnLst>
                                </p:cTn>
                              </p:par>
                              <p:animClr clrSpc="rgb">
                                <p:cBhvr>
                                  <p:cTn id="29" dur="1" fill="hold">
                                    <p:stCondLst>
                                      <p:cond delay="0"/>
                                    </p:stCondLst>
                                  </p:cTn>
                                  <p:tgtEl>
                                    <p:spTgt spid="211">
                                      <p:txEl>
                                        <p:pRg st="1" end="1"/>
                                      </p:txEl>
                                    </p:spTgt>
                                  </p:tgtEl>
                                  <p:attrNameLst>
                                    <p:attrName>ppt_c</p:attrName>
                                  </p:attrNameLst>
                                </p:cBhvr>
                                <p:to>
                                  <a:srgbClr val="ffffcc"/>
                                </p:to>
                              </p:animClr>
                            </p:childTnLst>
                          </p:cTn>
                        </p:par>
                      </p:childTnLst>
                    </p:cTn>
                  </p:par>
                  <p:par>
                    <p:cTn id="30" fill="hold">
                      <p:stCondLst>
                        <p:cond delay="indefinite"/>
                      </p:stCondLst>
                      <p:childTnLst>
                        <p:par>
                          <p:cTn id="31" fill="hold">
                            <p:stCondLst>
                              <p:cond delay="0"/>
                            </p:stCondLst>
                            <p:childTnLst>
                              <p:animClr clrSpc="rgb">
                                <p:cBhvr>
                                  <p:cTn id="32" dur="1" fill="hold"/>
                                  <p:tgtEl>
                                    <p:spTgt spid="211">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Wednesday, 15 August</a:t>
            </a:r>
            <a:br>
              <a:rPr sz="4000"/>
            </a:br>
            <a:r>
              <a:rPr b="0" lang="en-US" sz="4000" spc="-1" strike="noStrike">
                <a:solidFill>
                  <a:srgbClr val="ffffcc"/>
                </a:solidFill>
                <a:latin typeface="Arial"/>
              </a:rPr>
              <a:t>AM Agenda 9:10 – 10:10</a:t>
            </a:r>
            <a:endParaRPr b="0" lang="en-US" sz="40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ning Activity—Brain game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to know your Pacing Guid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About the Text</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ngle Textbook Adoption</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er created “hunt” for students</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ear ‘round supporting workshops for new &amp; non-tenured teache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Wednesday, 15 August</a:t>
            </a:r>
            <a:br>
              <a:rPr sz="4000"/>
            </a:br>
            <a:r>
              <a:rPr b="0" lang="en-US" sz="4000" spc="-1" strike="noStrike">
                <a:solidFill>
                  <a:srgbClr val="ffffcc"/>
                </a:solidFill>
                <a:latin typeface="Arial"/>
              </a:rPr>
              <a:t>AM Agenda 10:15-11:30</a:t>
            </a:r>
            <a:endParaRPr b="0" lang="en-US" sz="4000" spc="-1" strike="noStrike">
              <a:solidFill>
                <a:srgbClr val="ffffcc"/>
              </a:solidFill>
              <a:latin typeface="Arial"/>
            </a:endParaRPr>
          </a:p>
        </p:txBody>
      </p:sp>
      <p:sp>
        <p:nvSpPr>
          <p:cNvPr id="216" name="PlaceHolder 2"/>
          <p:cNvSpPr>
            <a:spLocks noGrp="1"/>
          </p:cNvSpPr>
          <p:nvPr>
            <p:ph/>
          </p:nvPr>
        </p:nvSpPr>
        <p:spPr>
          <a:xfrm>
            <a:off x="456840" y="2362320"/>
            <a:ext cx="8001000" cy="376848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MPs in the WL Classroom</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1" lang="en-US" sz="2400" spc="-1" strike="noStrike">
                <a:solidFill>
                  <a:srgbClr val="ffffff"/>
                </a:solidFill>
                <a:latin typeface="Verdana"/>
              </a:rPr>
              <a:t>Pat Klos /Betsy Fecher</a:t>
            </a:r>
            <a:r>
              <a:rPr b="0" lang="en-US" sz="3200" spc="-1" strike="noStrike">
                <a:solidFill>
                  <a:srgbClr val="ffffff"/>
                </a:solidFill>
                <a:latin typeface="Verdana"/>
              </a:rPr>
              <a:t> </a:t>
            </a:r>
            <a:r>
              <a:rPr b="1" lang="en-US" sz="2400" spc="-1" strike="noStrike">
                <a:solidFill>
                  <a:srgbClr val="ffffff"/>
                </a:solidFill>
                <a:latin typeface="Verdana"/>
              </a:rPr>
              <a:t>(10:15 – 11:15)</a:t>
            </a:r>
            <a:endParaRPr b="0" lang="en-US" sz="24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lection journal – question #1</a:t>
            </a:r>
            <a:endParaRPr b="0" lang="en-US" sz="3200" spc="-1" strike="noStrike">
              <a:solidFill>
                <a:srgbClr val="ffffff"/>
              </a:solidFill>
              <a:latin typeface="Verdana"/>
            </a:endParaRPr>
          </a:p>
        </p:txBody>
      </p:sp>
      <p:pic>
        <p:nvPicPr>
          <p:cNvPr id="217" name="" descr=""/>
          <p:cNvPicPr/>
          <p:nvPr/>
        </p:nvPicPr>
        <p:blipFill>
          <a:blip r:embed="rId1"/>
          <a:stretch/>
        </p:blipFill>
        <p:spPr>
          <a:xfrm>
            <a:off x="6095880" y="4316400"/>
            <a:ext cx="27432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rot="21202800">
            <a:off x="3580920" y="685440"/>
            <a:ext cx="2438640" cy="2120760"/>
          </a:xfrm>
          <a:prstGeom prst="rect">
            <a:avLst/>
          </a:prstGeom>
          <a:ln w="0">
            <a:noFill/>
          </a:ln>
        </p:spPr>
      </p:pic>
      <p:sp>
        <p:nvSpPr>
          <p:cNvPr id="219" name=""/>
          <p:cNvSpPr/>
          <p:nvPr/>
        </p:nvSpPr>
        <p:spPr>
          <a:xfrm>
            <a:off x="1447920" y="34290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Lunch in the cafeteria</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Bis halb ein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a:t>
            </a:r>
            <a:r>
              <a:rPr b="1" lang="es-ES" sz="3600" spc="-1" strike="noStrike">
                <a:solidFill>
                  <a:srgbClr val="fadf6c"/>
                </a:solidFill>
                <a:latin typeface="Bradley Hand ITC"/>
              </a:rPr>
              <a:t>Hasta las doce y media</a:t>
            </a:r>
            <a:r>
              <a:rPr b="1" lang="en-US" sz="3600" spc="-1" strike="noStrike">
                <a:solidFill>
                  <a:srgbClr val="fadf6c"/>
                </a:solidFill>
                <a:latin typeface="Bradley Hand ITC"/>
              </a:rPr>
              <a:t>!</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adf6c"/>
                </a:solidFill>
                <a:latin typeface="Bradley Hand ITC"/>
              </a:rPr>
              <a:t>À midi et dem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04560"/>
            <a:ext cx="5943600" cy="1703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CL  Wednesday, </a:t>
            </a:r>
            <a:br>
              <a:rPr sz="3600"/>
            </a:br>
            <a:r>
              <a:rPr b="0" lang="en-US" sz="3600" spc="-1" strike="noStrike">
                <a:solidFill>
                  <a:srgbClr val="ffffcc"/>
                </a:solidFill>
                <a:latin typeface="Arial"/>
              </a:rPr>
              <a:t>15 August</a:t>
            </a:r>
            <a:br>
              <a:rPr sz="3600"/>
            </a:br>
            <a:r>
              <a:rPr b="0" lang="en-US" sz="3200" spc="-1" strike="noStrike">
                <a:solidFill>
                  <a:srgbClr val="ffffcc"/>
                </a:solidFill>
                <a:latin typeface="Arial"/>
              </a:rPr>
              <a:t>PM Agenda 1:00 -2:30</a:t>
            </a:r>
            <a:endParaRPr b="0" lang="en-US" sz="3200" spc="-1" strike="noStrike">
              <a:solidFill>
                <a:srgbClr val="ffffcc"/>
              </a:solidFill>
              <a:latin typeface="Arial"/>
            </a:endParaRPr>
          </a:p>
        </p:txBody>
      </p:sp>
      <p:pic>
        <p:nvPicPr>
          <p:cNvPr id="221" name="" descr=""/>
          <p:cNvPicPr/>
          <p:nvPr/>
        </p:nvPicPr>
        <p:blipFill>
          <a:blip r:embed="rId1">
            <a:lum contrast="-6000"/>
          </a:blip>
          <a:srcRect l="12717" t="0" r="0" b="14287"/>
          <a:stretch/>
        </p:blipFill>
        <p:spPr>
          <a:xfrm>
            <a:off x="6400800" y="228600"/>
            <a:ext cx="2514600" cy="2163600"/>
          </a:xfrm>
          <a:prstGeom prst="rect">
            <a:avLst/>
          </a:prstGeom>
          <a:ln w="0">
            <a:noFill/>
          </a:ln>
        </p:spPr>
      </p:pic>
      <p:sp>
        <p:nvSpPr>
          <p:cNvPr id="222" name="PlaceHolder 2"/>
          <p:cNvSpPr>
            <a:spLocks noGrp="1"/>
          </p:cNvSpPr>
          <p:nvPr>
            <p:ph/>
          </p:nvPr>
        </p:nvSpPr>
        <p:spPr>
          <a:xfrm>
            <a:off x="380880" y="2437920"/>
            <a:ext cx="8229600" cy="4419720"/>
          </a:xfrm>
          <a:prstGeom prst="rect">
            <a:avLst/>
          </a:prstGeom>
          <a:noFill/>
          <a:ln w="0">
            <a:noFill/>
          </a:ln>
        </p:spPr>
        <p:txBody>
          <a:bodyPr lIns="90000" rIns="90000" tIns="46800" bIns="46800"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eacher Panel –teachers with 1 to 4 years experience share their classroom experiences.</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articipants -- prepare questions</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s/testimonial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Elke Rogers</a:t>
            </a:r>
            <a:r>
              <a:rPr b="0" lang="en-US" sz="2400" spc="-1" strike="noStrike">
                <a:solidFill>
                  <a:srgbClr val="ffffff"/>
                </a:solidFill>
                <a:latin typeface="Verdana"/>
              </a:rPr>
              <a:t>, </a:t>
            </a:r>
            <a:r>
              <a:rPr b="0" lang="en-US" sz="2400" spc="-1" strike="noStrike">
                <a:solidFill>
                  <a:srgbClr val="ff9900"/>
                </a:solidFill>
                <a:latin typeface="Verdana"/>
              </a:rPr>
              <a:t>Charis Jones</a:t>
            </a:r>
            <a:r>
              <a:rPr b="0" lang="en-US" sz="2400" spc="-1" strike="noStrike">
                <a:solidFill>
                  <a:srgbClr val="ffffff"/>
                </a:solidFill>
                <a:latin typeface="Verdana"/>
              </a:rPr>
              <a:t> and </a:t>
            </a:r>
            <a:r>
              <a:rPr b="0" lang="en-US" sz="2400" spc="-1" strike="noStrike">
                <a:solidFill>
                  <a:srgbClr val="ff9900"/>
                </a:solidFill>
                <a:latin typeface="Verdana"/>
              </a:rPr>
              <a:t>Kate Benoit</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Answer session to follow</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flection journal — complete/turn in</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rientation evalua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eorgia"/>
              </a:rPr>
              <a:t>Professional Development </a:t>
            </a:r>
            <a:br>
              <a:rPr sz="3200"/>
            </a:br>
            <a:r>
              <a:rPr b="0" lang="en-US" sz="3200" spc="-1" strike="noStrike">
                <a:solidFill>
                  <a:srgbClr val="ffffcc"/>
                </a:solidFill>
                <a:latin typeface="Georgia"/>
              </a:rPr>
              <a:t>Opportunities</a:t>
            </a:r>
            <a:endParaRPr b="0" lang="en-US" sz="3200" spc="-1" strike="noStrike">
              <a:solidFill>
                <a:srgbClr val="ffffcc"/>
              </a:solidFill>
              <a:latin typeface="Arial"/>
            </a:endParaRPr>
          </a:p>
        </p:txBody>
      </p:sp>
      <p:sp>
        <p:nvSpPr>
          <p:cNvPr id="224" name="PlaceHolder 2"/>
          <p:cNvSpPr>
            <a:spLocks noGrp="1"/>
          </p:cNvSpPr>
          <p:nvPr>
            <p:ph/>
          </p:nvPr>
        </p:nvSpPr>
        <p:spPr>
          <a:xfrm>
            <a:off x="1142640" y="1828800"/>
            <a:ext cx="716292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1" lang="en-US" sz="2400" spc="-1" strike="noStrike">
                <a:solidFill>
                  <a:srgbClr val="ffffff"/>
                </a:solidFill>
                <a:latin typeface="Georgia"/>
              </a:rPr>
              <a:t>World and Classical Languages</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ptember 12</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Teach Them to Listen </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October 10</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Proofing the</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Assessments</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all teachers invited)</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November 13</a:t>
            </a:r>
            <a:r>
              <a:rPr b="0" lang="en-US" sz="2000" spc="-1" strike="noStrike">
                <a:solidFill>
                  <a:srgbClr val="ffffff"/>
                </a:solidFill>
                <a:latin typeface="Georgia"/>
              </a:rPr>
              <a:t>	</a:t>
            </a:r>
            <a:r>
              <a:rPr b="0" lang="en-US" sz="2000" spc="-1" strike="noStrike">
                <a:solidFill>
                  <a:srgbClr val="ffffff"/>
                </a:solidFill>
                <a:latin typeface="Georgia"/>
              </a:rPr>
              <a:t>               Effective Lesson   </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Planning/Delivery</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January 9                             To be determined by you</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February 6                           Make it/Take it  - Crofton</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Media Production Center</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arch  5                               Professional Development</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all teachers invited) - TBA </a:t>
            </a:r>
            <a:r>
              <a:rPr b="0" lang="en-US" sz="2000" spc="-1" strike="noStrike">
                <a:solidFill>
                  <a:srgbClr val="ffffff"/>
                </a:solidFill>
                <a:latin typeface="Georgia"/>
              </a:rPr>
              <a:t>	</a:t>
            </a:r>
            <a:r>
              <a:rPr b="0" lang="en-US" sz="2000" spc="-1" strike="noStrike">
                <a:solidFill>
                  <a:srgbClr val="ffffff"/>
                </a:solidFill>
                <a:latin typeface="Georgia"/>
              </a:rPr>
              <a:t>	</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5" name="" descr=""/>
          <p:cNvPicPr/>
          <p:nvPr/>
        </p:nvPicPr>
        <p:blipFill>
          <a:blip r:embed="rId1"/>
          <a:stretch/>
        </p:blipFill>
        <p:spPr>
          <a:xfrm>
            <a:off x="533520" y="662040"/>
            <a:ext cx="1447560" cy="129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514600" y="1523880"/>
            <a:ext cx="3962520" cy="3962520"/>
          </a:xfrm>
          <a:prstGeom prst="rect">
            <a:avLst/>
          </a:prstGeom>
          <a:ln w="0">
            <a:noFill/>
          </a:ln>
        </p:spPr>
      </p:pic>
      <p:sp>
        <p:nvSpPr>
          <p:cNvPr id="170" name=""/>
          <p:cNvSpPr/>
          <p:nvPr/>
        </p:nvSpPr>
        <p:spPr>
          <a:xfrm rot="20976000">
            <a:off x="779040" y="1827720"/>
            <a:ext cx="14302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avie"/>
              </a:rPr>
              <a:t>Bitte!</a:t>
            </a:r>
            <a:endParaRPr b="0" lang="en-US" sz="4000" spc="-1" strike="noStrike">
              <a:solidFill>
                <a:srgbClr val="ffffff"/>
              </a:solidFill>
              <a:latin typeface="Times New Roman"/>
            </a:endParaRPr>
          </a:p>
        </p:txBody>
      </p:sp>
      <p:sp>
        <p:nvSpPr>
          <p:cNvPr id="171" name=""/>
          <p:cNvSpPr/>
          <p:nvPr/>
        </p:nvSpPr>
        <p:spPr>
          <a:xfrm rot="20961000">
            <a:off x="5460480" y="608400"/>
            <a:ext cx="2777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Bauhaus 93"/>
              </a:rPr>
              <a:t>¡ Por favor!</a:t>
            </a:r>
            <a:endParaRPr b="0" lang="en-US" sz="4000" spc="-1" strike="noStrike">
              <a:solidFill>
                <a:srgbClr val="ffffff"/>
              </a:solidFill>
              <a:latin typeface="Times New Roman"/>
            </a:endParaRPr>
          </a:p>
        </p:txBody>
      </p:sp>
      <p:sp>
        <p:nvSpPr>
          <p:cNvPr id="172" name=""/>
          <p:cNvSpPr/>
          <p:nvPr/>
        </p:nvSpPr>
        <p:spPr>
          <a:xfrm rot="20509800">
            <a:off x="4478400" y="5486040"/>
            <a:ext cx="3295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Kristen ITC"/>
              </a:rPr>
              <a:t>S’il vous plaî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Whatever you do ….</a:t>
            </a:r>
            <a:endParaRPr b="0" lang="en-US" sz="6600" spc="-1" strike="noStrike">
              <a:solidFill>
                <a:srgbClr val="ffffcc"/>
              </a:solidFill>
              <a:latin typeface="Arial"/>
            </a:endParaRPr>
          </a:p>
        </p:txBody>
      </p:sp>
      <p:sp>
        <p:nvSpPr>
          <p:cNvPr id="227" name="PlaceHolder 2"/>
          <p:cNvSpPr>
            <a:spLocks noGrp="1"/>
          </p:cNvSpPr>
          <p:nvPr>
            <p:ph/>
          </p:nvPr>
        </p:nvSpPr>
        <p:spPr>
          <a:xfrm>
            <a:off x="3733920" y="1600200"/>
            <a:ext cx="50292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arlez en fran</a:t>
            </a:r>
            <a:r>
              <a:rPr b="0" lang="en-US" sz="3600" spc="-1" strike="noStrike">
                <a:solidFill>
                  <a:srgbClr val="ffffff"/>
                </a:solidFill>
                <a:latin typeface="Verdana"/>
                <a:ea typeface="Times New Roman"/>
              </a:rPr>
              <a:t>ç</a:t>
            </a:r>
            <a:r>
              <a:rPr b="0" lang="en-US" sz="3600" spc="-1" strike="noStrike">
                <a:solidFill>
                  <a:srgbClr val="ffffff"/>
                </a:solidFill>
                <a:latin typeface="Verdana"/>
              </a:rPr>
              <a:t>ais!</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a:t>
            </a:r>
            <a:r>
              <a:rPr b="0" lang="en-US" sz="3600" spc="-1" strike="noStrike">
                <a:solidFill>
                  <a:srgbClr val="ffffff"/>
                </a:solidFill>
                <a:latin typeface="Verdana"/>
              </a:rPr>
              <a:t>Hablen en espa</a:t>
            </a:r>
            <a:r>
              <a:rPr b="0" lang="en-US" sz="3600" spc="-1" strike="noStrike">
                <a:solidFill>
                  <a:srgbClr val="ffffff"/>
                </a:solidFill>
                <a:latin typeface="Verdana"/>
                <a:ea typeface="Times New Roman"/>
              </a:rPr>
              <a:t>ñol!</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Sprechen Sie auf</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  </a:t>
            </a:r>
            <a:r>
              <a:rPr b="0" lang="en-US" sz="3600" spc="-1" strike="noStrike">
                <a:solidFill>
                  <a:srgbClr val="ffffff"/>
                </a:solidFill>
                <a:latin typeface="Verdana"/>
                <a:ea typeface="Times New Roman"/>
              </a:rPr>
              <a:t>Deutsch!</a:t>
            </a:r>
            <a:endParaRPr b="0" lang="en-US" sz="3600" spc="-1" strike="noStrike">
              <a:solidFill>
                <a:srgbClr val="ffffff"/>
              </a:solidFill>
              <a:latin typeface="Verdana"/>
            </a:endParaRPr>
          </a:p>
        </p:txBody>
      </p:sp>
      <p:pic>
        <p:nvPicPr>
          <p:cNvPr id="228" name="" descr=""/>
          <p:cNvPicPr/>
          <p:nvPr/>
        </p:nvPicPr>
        <p:blipFill>
          <a:blip r:embed="rId1"/>
          <a:stretch/>
        </p:blipFill>
        <p:spPr>
          <a:xfrm>
            <a:off x="1222200" y="1600200"/>
            <a:ext cx="2503800" cy="4530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2" name="applause.wav"/>
                                        </p:tgtEl>
                                      </p:cMediaNode>
                                    </p:audio>
                                    <p:set>
                                      <p:cBhvr>
                                        <p:cTn id="38" dur="1" fill="hold">
                                          <p:stCondLst>
                                            <p:cond delay="0"/>
                                          </p:stCondLst>
                                        </p:cTn>
                                        <p:tgtEl>
                                          <p:spTgt spid="227"/>
                                        </p:tgtEl>
                                        <p:attrNameLst>
                                          <p:attrName>style.visibility</p:attrName>
                                        </p:attrNameLst>
                                      </p:cBhvr>
                                      <p:to>
                                        <p:strVal val="visible"/>
                                      </p:to>
                                    </p:set>
                                    <p:animEffect filter="checkerboard(across)"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9" name=""/>
          <p:cNvSpPr/>
          <p:nvPr/>
        </p:nvSpPr>
        <p:spPr>
          <a:xfrm>
            <a:off x="4419720" y="6019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Freeman Hrabowski III President, UMBC</a:t>
            </a:r>
            <a:endParaRPr b="0" lang="en-US" sz="1800" spc="-1" strike="noStrike">
              <a:solidFill>
                <a:srgbClr val="ffffff"/>
              </a:solidFill>
              <a:latin typeface="Times New Roman"/>
            </a:endParaRPr>
          </a:p>
        </p:txBody>
      </p:sp>
      <p:sp>
        <p:nvSpPr>
          <p:cNvPr id="230"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thought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1"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word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ac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action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habi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3"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habit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character</a:t>
            </a:r>
            <a:r>
              <a:rPr b="0" i="1" lang="en-US" sz="3600" spc="-1" strike="noStrike">
                <a:solidFill>
                  <a:srgbClr val="622100"/>
                </a:solidFill>
                <a:latin typeface="Gill Sans M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character</a:t>
            </a:r>
            <a:r>
              <a:rPr b="0" i="1" lang="en-US" sz="3600" spc="-1" strike="noStrike">
                <a:solidFill>
                  <a:srgbClr val="622100"/>
                </a:solidFill>
                <a:latin typeface="Gill Sans MT"/>
              </a:rPr>
              <a:t>….it becomes your </a:t>
            </a:r>
            <a:r>
              <a:rPr b="1" i="1" lang="en-US" sz="3600" spc="-1" strike="noStrike">
                <a:solidFill>
                  <a:srgbClr val="622100"/>
                </a:solidFill>
                <a:latin typeface="Gill Sans MT"/>
              </a:rPr>
              <a:t>destin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en-US" sz="4400" spc="-1" strike="noStrike">
                <a:solidFill>
                  <a:srgbClr val="ffffcc"/>
                </a:solidFill>
                <a:latin typeface="Arial"/>
              </a:rPr>
              <a:t>When you want or need help…</a:t>
            </a:r>
            <a:endParaRPr b="0" lang="en-US" sz="4400" spc="-1" strike="noStrike">
              <a:solidFill>
                <a:srgbClr val="ffffcc"/>
              </a:solidFill>
              <a:latin typeface="Arial"/>
            </a:endParaRPr>
          </a:p>
        </p:txBody>
      </p:sp>
      <p:sp>
        <p:nvSpPr>
          <p:cNvPr id="236" name="PlaceHolder 2"/>
          <p:cNvSpPr>
            <a:spLocks noGrp="1"/>
          </p:cNvSpPr>
          <p:nvPr>
            <p:ph type="subTitle"/>
          </p:nvPr>
        </p:nvSpPr>
        <p:spPr>
          <a:xfrm>
            <a:off x="1142640" y="2286000"/>
            <a:ext cx="701028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nnifer Hernandez</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ordinator, World Languages</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adf6c"/>
                </a:solidFill>
                <a:latin typeface="Verdana"/>
              </a:rPr>
              <a:t>410.222.5424</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ncie Middleton &amp;</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nda Swenson</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urce</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adf6c"/>
                </a:solidFill>
                <a:latin typeface="Verdana"/>
              </a:rPr>
              <a:t>410.222.5466</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37" name="" descr=""/>
          <p:cNvPicPr/>
          <p:nvPr/>
        </p:nvPicPr>
        <p:blipFill>
          <a:blip r:embed="rId1"/>
          <a:stretch/>
        </p:blipFill>
        <p:spPr>
          <a:xfrm>
            <a:off x="304920" y="325440"/>
            <a:ext cx="2743200" cy="18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838080" y="1066680"/>
            <a:ext cx="1971720" cy="1363680"/>
          </a:xfrm>
          <a:prstGeom prst="rect">
            <a:avLst/>
          </a:prstGeom>
          <a:ln w="0">
            <a:noFill/>
          </a:ln>
        </p:spPr>
      </p:pic>
      <p:pic>
        <p:nvPicPr>
          <p:cNvPr id="239" name="" descr=""/>
          <p:cNvPicPr/>
          <p:nvPr/>
        </p:nvPicPr>
        <p:blipFill>
          <a:blip r:embed="rId2"/>
          <a:stretch/>
        </p:blipFill>
        <p:spPr>
          <a:xfrm>
            <a:off x="3124080" y="2895480"/>
            <a:ext cx="2190960" cy="1514520"/>
          </a:xfrm>
          <a:prstGeom prst="rect">
            <a:avLst/>
          </a:prstGeom>
          <a:ln w="0">
            <a:noFill/>
          </a:ln>
        </p:spPr>
      </p:pic>
      <p:pic>
        <p:nvPicPr>
          <p:cNvPr id="240" name="" descr=""/>
          <p:cNvPicPr/>
          <p:nvPr/>
        </p:nvPicPr>
        <p:blipFill>
          <a:blip r:embed="rId3"/>
          <a:stretch/>
        </p:blipFill>
        <p:spPr>
          <a:xfrm>
            <a:off x="6248520" y="4419720"/>
            <a:ext cx="2190600" cy="15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oday’s Agenda 14 August 07</a:t>
            </a:r>
            <a:endParaRPr b="0" lang="en-US" sz="4400" spc="-1" strike="noStrike">
              <a:solidFill>
                <a:srgbClr val="ffffcc"/>
              </a:solidFill>
              <a:latin typeface="Arial"/>
            </a:endParaRPr>
          </a:p>
        </p:txBody>
      </p:sp>
      <p:sp>
        <p:nvSpPr>
          <p:cNvPr id="174"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10-11:25-Welcome, Introductions</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igating “the binder” </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ready for the first day</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30 to 12:30 - Lunch</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30 -2:00</a:t>
            </a:r>
            <a:r>
              <a:rPr b="1" lang="en-US" sz="3200" spc="-1" strike="noStrike">
                <a:solidFill>
                  <a:srgbClr val="ffffff"/>
                </a:solidFill>
                <a:latin typeface="Verdana"/>
              </a:rPr>
              <a:t>- </a:t>
            </a:r>
            <a:r>
              <a:rPr b="0" lang="en-US" sz="3200" spc="-1" strike="noStrike">
                <a:solidFill>
                  <a:srgbClr val="ffffff"/>
                </a:solidFill>
                <a:latin typeface="Verdana"/>
              </a:rPr>
              <a:t>Focus on Learning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esson planning/PAG</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0 Reflection Journal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mplete/turn in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75" name="" descr=""/>
          <p:cNvPicPr/>
          <p:nvPr/>
        </p:nvPicPr>
        <p:blipFill>
          <a:blip r:embed="rId1"/>
          <a:stretch/>
        </p:blipFill>
        <p:spPr>
          <a:xfrm>
            <a:off x="7162920" y="4191120"/>
            <a:ext cx="165096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r bist </a:t>
            </a:r>
            <a:r>
              <a:rPr b="0" lang="en-US" sz="4400" spc="-1" strike="noStrike">
                <a:solidFill>
                  <a:srgbClr val="e42b00"/>
                </a:solidFill>
                <a:latin typeface="Arial"/>
              </a:rPr>
              <a:t>du</a:t>
            </a:r>
            <a:r>
              <a:rPr b="0" lang="en-US" sz="4400" spc="-1" strike="noStrike">
                <a:solidFill>
                  <a:srgbClr val="ffffcc"/>
                </a:solidFill>
                <a:latin typeface="Arial"/>
              </a:rPr>
              <a:t>? Tina…Karl?</a:t>
            </a:r>
            <a:endParaRPr b="0" lang="en-US" sz="4400" spc="-1" strike="noStrike">
              <a:solidFill>
                <a:srgbClr val="ffffcc"/>
              </a:solidFill>
              <a:latin typeface="Arial"/>
            </a:endParaRPr>
          </a:p>
        </p:txBody>
      </p:sp>
      <p:sp>
        <p:nvSpPr>
          <p:cNvPr id="177" name=""/>
          <p:cNvSpPr/>
          <p:nvPr/>
        </p:nvSpPr>
        <p:spPr>
          <a:xfrm>
            <a:off x="2438280" y="2895480"/>
            <a:ext cx="914400" cy="914400"/>
          </a:xfrm>
          <a:prstGeom prst="smileyFace">
            <a:avLst>
              <a:gd name="adj" fmla="val 9282"/>
            </a:avLst>
          </a:prstGeom>
          <a:solidFill>
            <a:srgbClr val="ffffcc"/>
          </a:solidFill>
          <a:ln w="93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235240" y="2619360"/>
            <a:ext cx="1422360" cy="847800"/>
          </a:xfrm>
          <a:custGeom>
            <a:avLst/>
            <a:gdLst/>
            <a:ahLst/>
            <a:rect l="l" t="t" r="r" b="b"/>
            <a:pathLst>
              <a:path w="896" h="534">
                <a:moveTo>
                  <a:pt x="380" y="114"/>
                </a:moveTo>
                <a:cubicBezTo>
                  <a:pt x="400" y="32"/>
                  <a:pt x="408" y="38"/>
                  <a:pt x="488" y="54"/>
                </a:cubicBezTo>
                <a:cubicBezTo>
                  <a:pt x="496" y="77"/>
                  <a:pt x="515" y="115"/>
                  <a:pt x="488" y="138"/>
                </a:cubicBezTo>
                <a:cubicBezTo>
                  <a:pt x="469" y="154"/>
                  <a:pt x="416" y="162"/>
                  <a:pt x="416" y="162"/>
                </a:cubicBezTo>
                <a:cubicBezTo>
                  <a:pt x="424" y="150"/>
                  <a:pt x="426" y="131"/>
                  <a:pt x="440" y="126"/>
                </a:cubicBezTo>
                <a:cubicBezTo>
                  <a:pt x="490" y="109"/>
                  <a:pt x="491" y="147"/>
                  <a:pt x="500" y="174"/>
                </a:cubicBezTo>
                <a:cubicBezTo>
                  <a:pt x="496" y="194"/>
                  <a:pt x="488" y="214"/>
                  <a:pt x="488" y="234"/>
                </a:cubicBezTo>
                <a:cubicBezTo>
                  <a:pt x="488" y="247"/>
                  <a:pt x="491" y="207"/>
                  <a:pt x="500" y="198"/>
                </a:cubicBezTo>
                <a:cubicBezTo>
                  <a:pt x="509" y="189"/>
                  <a:pt x="524" y="190"/>
                  <a:pt x="536" y="186"/>
                </a:cubicBezTo>
                <a:cubicBezTo>
                  <a:pt x="593" y="205"/>
                  <a:pt x="593" y="229"/>
                  <a:pt x="620" y="282"/>
                </a:cubicBezTo>
                <a:cubicBezTo>
                  <a:pt x="616" y="298"/>
                  <a:pt x="624" y="325"/>
                  <a:pt x="608" y="330"/>
                </a:cubicBezTo>
                <a:cubicBezTo>
                  <a:pt x="594" y="335"/>
                  <a:pt x="574" y="263"/>
                  <a:pt x="572" y="258"/>
                </a:cubicBezTo>
                <a:cubicBezTo>
                  <a:pt x="584" y="250"/>
                  <a:pt x="595" y="228"/>
                  <a:pt x="608" y="234"/>
                </a:cubicBezTo>
                <a:cubicBezTo>
                  <a:pt x="619" y="240"/>
                  <a:pt x="609" y="270"/>
                  <a:pt x="596" y="270"/>
                </a:cubicBezTo>
                <a:cubicBezTo>
                  <a:pt x="579" y="270"/>
                  <a:pt x="572" y="246"/>
                  <a:pt x="560" y="234"/>
                </a:cubicBezTo>
                <a:cubicBezTo>
                  <a:pt x="564" y="186"/>
                  <a:pt x="557" y="136"/>
                  <a:pt x="572" y="90"/>
                </a:cubicBezTo>
                <a:cubicBezTo>
                  <a:pt x="577" y="76"/>
                  <a:pt x="590" y="113"/>
                  <a:pt x="596" y="126"/>
                </a:cubicBezTo>
                <a:cubicBezTo>
                  <a:pt x="602" y="137"/>
                  <a:pt x="604" y="150"/>
                  <a:pt x="608" y="162"/>
                </a:cubicBezTo>
                <a:cubicBezTo>
                  <a:pt x="604" y="173"/>
                  <a:pt x="596" y="231"/>
                  <a:pt x="560" y="210"/>
                </a:cubicBezTo>
                <a:cubicBezTo>
                  <a:pt x="545" y="201"/>
                  <a:pt x="544" y="178"/>
                  <a:pt x="536" y="162"/>
                </a:cubicBezTo>
                <a:cubicBezTo>
                  <a:pt x="540" y="146"/>
                  <a:pt x="548" y="98"/>
                  <a:pt x="548" y="114"/>
                </a:cubicBezTo>
                <a:cubicBezTo>
                  <a:pt x="548" y="138"/>
                  <a:pt x="548" y="165"/>
                  <a:pt x="536" y="186"/>
                </a:cubicBezTo>
                <a:cubicBezTo>
                  <a:pt x="530" y="197"/>
                  <a:pt x="512" y="194"/>
                  <a:pt x="500" y="198"/>
                </a:cubicBezTo>
                <a:cubicBezTo>
                  <a:pt x="492" y="186"/>
                  <a:pt x="473" y="176"/>
                  <a:pt x="476" y="162"/>
                </a:cubicBezTo>
                <a:cubicBezTo>
                  <a:pt x="478" y="153"/>
                  <a:pt x="560" y="114"/>
                  <a:pt x="560" y="114"/>
                </a:cubicBezTo>
                <a:cubicBezTo>
                  <a:pt x="589" y="231"/>
                  <a:pt x="560" y="85"/>
                  <a:pt x="560" y="222"/>
                </a:cubicBezTo>
                <a:cubicBezTo>
                  <a:pt x="560" y="238"/>
                  <a:pt x="560" y="186"/>
                  <a:pt x="572" y="174"/>
                </a:cubicBezTo>
                <a:cubicBezTo>
                  <a:pt x="584" y="162"/>
                  <a:pt x="604" y="166"/>
                  <a:pt x="620" y="162"/>
                </a:cubicBezTo>
                <a:cubicBezTo>
                  <a:pt x="649" y="206"/>
                  <a:pt x="709" y="233"/>
                  <a:pt x="668" y="294"/>
                </a:cubicBezTo>
                <a:cubicBezTo>
                  <a:pt x="661" y="305"/>
                  <a:pt x="644" y="302"/>
                  <a:pt x="632" y="306"/>
                </a:cubicBezTo>
                <a:cubicBezTo>
                  <a:pt x="636" y="290"/>
                  <a:pt x="629" y="265"/>
                  <a:pt x="644" y="258"/>
                </a:cubicBezTo>
                <a:cubicBezTo>
                  <a:pt x="655" y="252"/>
                  <a:pt x="662" y="283"/>
                  <a:pt x="656" y="294"/>
                </a:cubicBezTo>
                <a:cubicBezTo>
                  <a:pt x="650" y="305"/>
                  <a:pt x="632" y="302"/>
                  <a:pt x="620" y="306"/>
                </a:cubicBezTo>
                <a:cubicBezTo>
                  <a:pt x="639" y="250"/>
                  <a:pt x="646" y="239"/>
                  <a:pt x="704" y="258"/>
                </a:cubicBezTo>
                <a:cubicBezTo>
                  <a:pt x="717" y="297"/>
                  <a:pt x="736" y="336"/>
                  <a:pt x="704" y="378"/>
                </a:cubicBezTo>
                <a:cubicBezTo>
                  <a:pt x="695" y="390"/>
                  <a:pt x="667" y="347"/>
                  <a:pt x="680" y="342"/>
                </a:cubicBezTo>
                <a:cubicBezTo>
                  <a:pt x="706" y="331"/>
                  <a:pt x="736" y="350"/>
                  <a:pt x="764" y="354"/>
                </a:cubicBezTo>
                <a:cubicBezTo>
                  <a:pt x="772" y="366"/>
                  <a:pt x="791" y="376"/>
                  <a:pt x="788" y="390"/>
                </a:cubicBezTo>
                <a:cubicBezTo>
                  <a:pt x="781" y="420"/>
                  <a:pt x="723" y="392"/>
                  <a:pt x="716" y="390"/>
                </a:cubicBezTo>
                <a:cubicBezTo>
                  <a:pt x="720" y="374"/>
                  <a:pt x="713" y="349"/>
                  <a:pt x="728" y="342"/>
                </a:cubicBezTo>
                <a:cubicBezTo>
                  <a:pt x="811" y="300"/>
                  <a:pt x="789" y="392"/>
                  <a:pt x="776" y="414"/>
                </a:cubicBezTo>
                <a:cubicBezTo>
                  <a:pt x="769" y="427"/>
                  <a:pt x="752" y="430"/>
                  <a:pt x="740" y="438"/>
                </a:cubicBezTo>
                <a:cubicBezTo>
                  <a:pt x="732" y="426"/>
                  <a:pt x="713" y="416"/>
                  <a:pt x="716" y="402"/>
                </a:cubicBezTo>
                <a:cubicBezTo>
                  <a:pt x="719" y="390"/>
                  <a:pt x="740" y="385"/>
                  <a:pt x="752" y="390"/>
                </a:cubicBezTo>
                <a:cubicBezTo>
                  <a:pt x="765" y="395"/>
                  <a:pt x="768" y="414"/>
                  <a:pt x="776" y="426"/>
                </a:cubicBezTo>
                <a:cubicBezTo>
                  <a:pt x="772" y="438"/>
                  <a:pt x="773" y="453"/>
                  <a:pt x="764" y="462"/>
                </a:cubicBezTo>
                <a:cubicBezTo>
                  <a:pt x="755" y="471"/>
                  <a:pt x="719" y="483"/>
                  <a:pt x="728" y="474"/>
                </a:cubicBezTo>
                <a:cubicBezTo>
                  <a:pt x="741" y="461"/>
                  <a:pt x="760" y="458"/>
                  <a:pt x="776" y="450"/>
                </a:cubicBezTo>
                <a:cubicBezTo>
                  <a:pt x="784" y="462"/>
                  <a:pt x="800" y="472"/>
                  <a:pt x="800" y="486"/>
                </a:cubicBezTo>
                <a:cubicBezTo>
                  <a:pt x="800" y="522"/>
                  <a:pt x="762" y="527"/>
                  <a:pt x="740" y="534"/>
                </a:cubicBezTo>
                <a:cubicBezTo>
                  <a:pt x="721" y="458"/>
                  <a:pt x="714" y="463"/>
                  <a:pt x="728" y="378"/>
                </a:cubicBezTo>
                <a:cubicBezTo>
                  <a:pt x="736" y="394"/>
                  <a:pt x="758" y="409"/>
                  <a:pt x="752" y="426"/>
                </a:cubicBezTo>
                <a:cubicBezTo>
                  <a:pt x="748" y="438"/>
                  <a:pt x="719" y="426"/>
                  <a:pt x="716" y="414"/>
                </a:cubicBezTo>
                <a:cubicBezTo>
                  <a:pt x="709" y="391"/>
                  <a:pt x="724" y="366"/>
                  <a:pt x="728" y="342"/>
                </a:cubicBezTo>
                <a:cubicBezTo>
                  <a:pt x="716" y="338"/>
                  <a:pt x="699" y="340"/>
                  <a:pt x="692" y="330"/>
                </a:cubicBezTo>
                <a:cubicBezTo>
                  <a:pt x="654" y="276"/>
                  <a:pt x="668" y="156"/>
                  <a:pt x="644" y="114"/>
                </a:cubicBezTo>
                <a:cubicBezTo>
                  <a:pt x="636" y="100"/>
                  <a:pt x="612" y="106"/>
                  <a:pt x="596" y="102"/>
                </a:cubicBezTo>
                <a:cubicBezTo>
                  <a:pt x="549" y="40"/>
                  <a:pt x="504" y="21"/>
                  <a:pt x="428" y="6"/>
                </a:cubicBezTo>
                <a:cubicBezTo>
                  <a:pt x="408" y="10"/>
                  <a:pt x="377" y="0"/>
                  <a:pt x="368" y="18"/>
                </a:cubicBezTo>
                <a:cubicBezTo>
                  <a:pt x="308" y="137"/>
                  <a:pt x="406" y="97"/>
                  <a:pt x="440" y="90"/>
                </a:cubicBezTo>
                <a:cubicBezTo>
                  <a:pt x="385" y="72"/>
                  <a:pt x="375" y="69"/>
                  <a:pt x="356" y="126"/>
                </a:cubicBezTo>
                <a:cubicBezTo>
                  <a:pt x="360" y="138"/>
                  <a:pt x="356" y="157"/>
                  <a:pt x="368" y="162"/>
                </a:cubicBezTo>
                <a:cubicBezTo>
                  <a:pt x="383" y="168"/>
                  <a:pt x="409" y="165"/>
                  <a:pt x="416" y="150"/>
                </a:cubicBezTo>
                <a:cubicBezTo>
                  <a:pt x="422" y="139"/>
                  <a:pt x="392" y="142"/>
                  <a:pt x="380" y="138"/>
                </a:cubicBezTo>
                <a:cubicBezTo>
                  <a:pt x="360" y="142"/>
                  <a:pt x="334" y="136"/>
                  <a:pt x="320" y="150"/>
                </a:cubicBezTo>
                <a:cubicBezTo>
                  <a:pt x="311" y="159"/>
                  <a:pt x="332" y="199"/>
                  <a:pt x="332" y="186"/>
                </a:cubicBezTo>
                <a:cubicBezTo>
                  <a:pt x="332" y="118"/>
                  <a:pt x="330" y="129"/>
                  <a:pt x="284" y="114"/>
                </a:cubicBezTo>
                <a:cubicBezTo>
                  <a:pt x="283" y="115"/>
                  <a:pt x="238" y="176"/>
                  <a:pt x="248" y="186"/>
                </a:cubicBezTo>
                <a:cubicBezTo>
                  <a:pt x="257" y="195"/>
                  <a:pt x="272" y="178"/>
                  <a:pt x="284" y="174"/>
                </a:cubicBezTo>
                <a:cubicBezTo>
                  <a:pt x="280" y="158"/>
                  <a:pt x="285" y="136"/>
                  <a:pt x="272" y="126"/>
                </a:cubicBezTo>
                <a:cubicBezTo>
                  <a:pt x="262" y="118"/>
                  <a:pt x="242" y="127"/>
                  <a:pt x="236" y="138"/>
                </a:cubicBezTo>
                <a:cubicBezTo>
                  <a:pt x="218" y="175"/>
                  <a:pt x="270" y="181"/>
                  <a:pt x="284" y="186"/>
                </a:cubicBezTo>
                <a:cubicBezTo>
                  <a:pt x="332" y="182"/>
                  <a:pt x="387" y="199"/>
                  <a:pt x="428" y="174"/>
                </a:cubicBezTo>
                <a:cubicBezTo>
                  <a:pt x="446" y="163"/>
                  <a:pt x="417" y="132"/>
                  <a:pt x="404" y="114"/>
                </a:cubicBezTo>
                <a:cubicBezTo>
                  <a:pt x="389" y="94"/>
                  <a:pt x="354" y="85"/>
                  <a:pt x="332" y="78"/>
                </a:cubicBezTo>
                <a:cubicBezTo>
                  <a:pt x="328" y="62"/>
                  <a:pt x="333" y="40"/>
                  <a:pt x="320" y="30"/>
                </a:cubicBezTo>
                <a:cubicBezTo>
                  <a:pt x="286" y="4"/>
                  <a:pt x="274" y="72"/>
                  <a:pt x="272" y="78"/>
                </a:cubicBezTo>
                <a:cubicBezTo>
                  <a:pt x="357" y="135"/>
                  <a:pt x="288" y="84"/>
                  <a:pt x="272" y="90"/>
                </a:cubicBezTo>
                <a:cubicBezTo>
                  <a:pt x="259" y="95"/>
                  <a:pt x="256" y="114"/>
                  <a:pt x="248" y="126"/>
                </a:cubicBezTo>
                <a:cubicBezTo>
                  <a:pt x="152" y="102"/>
                  <a:pt x="233" y="105"/>
                  <a:pt x="188" y="150"/>
                </a:cubicBezTo>
                <a:cubicBezTo>
                  <a:pt x="179" y="159"/>
                  <a:pt x="164" y="158"/>
                  <a:pt x="152" y="162"/>
                </a:cubicBezTo>
                <a:cubicBezTo>
                  <a:pt x="156" y="178"/>
                  <a:pt x="148" y="205"/>
                  <a:pt x="164" y="210"/>
                </a:cubicBezTo>
                <a:cubicBezTo>
                  <a:pt x="178" y="215"/>
                  <a:pt x="200" y="182"/>
                  <a:pt x="188" y="174"/>
                </a:cubicBezTo>
                <a:cubicBezTo>
                  <a:pt x="171" y="163"/>
                  <a:pt x="148" y="182"/>
                  <a:pt x="128" y="186"/>
                </a:cubicBezTo>
                <a:cubicBezTo>
                  <a:pt x="120" y="198"/>
                  <a:pt x="104" y="222"/>
                  <a:pt x="104" y="222"/>
                </a:cubicBezTo>
                <a:cubicBezTo>
                  <a:pt x="69" y="326"/>
                  <a:pt x="115" y="293"/>
                  <a:pt x="212" y="282"/>
                </a:cubicBezTo>
                <a:cubicBezTo>
                  <a:pt x="208" y="258"/>
                  <a:pt x="217" y="227"/>
                  <a:pt x="200" y="210"/>
                </a:cubicBezTo>
                <a:cubicBezTo>
                  <a:pt x="190" y="200"/>
                  <a:pt x="164" y="220"/>
                  <a:pt x="164" y="234"/>
                </a:cubicBezTo>
                <a:cubicBezTo>
                  <a:pt x="164" y="248"/>
                  <a:pt x="188" y="250"/>
                  <a:pt x="200" y="258"/>
                </a:cubicBezTo>
                <a:cubicBezTo>
                  <a:pt x="212" y="254"/>
                  <a:pt x="233" y="258"/>
                  <a:pt x="236" y="246"/>
                </a:cubicBezTo>
                <a:cubicBezTo>
                  <a:pt x="244" y="213"/>
                  <a:pt x="191" y="203"/>
                  <a:pt x="176" y="198"/>
                </a:cubicBezTo>
                <a:cubicBezTo>
                  <a:pt x="66" y="226"/>
                  <a:pt x="76" y="270"/>
                  <a:pt x="44" y="366"/>
                </a:cubicBezTo>
                <a:cubicBezTo>
                  <a:pt x="56" y="370"/>
                  <a:pt x="74" y="367"/>
                  <a:pt x="80" y="378"/>
                </a:cubicBezTo>
                <a:cubicBezTo>
                  <a:pt x="108" y="426"/>
                  <a:pt x="140" y="534"/>
                  <a:pt x="140" y="534"/>
                </a:cubicBezTo>
                <a:cubicBezTo>
                  <a:pt x="148" y="522"/>
                  <a:pt x="167" y="512"/>
                  <a:pt x="164" y="498"/>
                </a:cubicBezTo>
                <a:cubicBezTo>
                  <a:pt x="161" y="481"/>
                  <a:pt x="104" y="466"/>
                  <a:pt x="92" y="462"/>
                </a:cubicBezTo>
                <a:cubicBezTo>
                  <a:pt x="88" y="446"/>
                  <a:pt x="90" y="427"/>
                  <a:pt x="80" y="414"/>
                </a:cubicBezTo>
                <a:cubicBezTo>
                  <a:pt x="72" y="404"/>
                  <a:pt x="54" y="394"/>
                  <a:pt x="44" y="402"/>
                </a:cubicBezTo>
                <a:cubicBezTo>
                  <a:pt x="31" y="412"/>
                  <a:pt x="20" y="438"/>
                  <a:pt x="32" y="450"/>
                </a:cubicBezTo>
                <a:cubicBezTo>
                  <a:pt x="42" y="460"/>
                  <a:pt x="62" y="427"/>
                  <a:pt x="56" y="414"/>
                </a:cubicBezTo>
                <a:cubicBezTo>
                  <a:pt x="50" y="403"/>
                  <a:pt x="32" y="422"/>
                  <a:pt x="20" y="426"/>
                </a:cubicBezTo>
                <a:cubicBezTo>
                  <a:pt x="16" y="438"/>
                  <a:pt x="0" y="452"/>
                  <a:pt x="8" y="462"/>
                </a:cubicBezTo>
                <a:cubicBezTo>
                  <a:pt x="28" y="489"/>
                  <a:pt x="116" y="464"/>
                  <a:pt x="128" y="462"/>
                </a:cubicBezTo>
                <a:cubicBezTo>
                  <a:pt x="148" y="403"/>
                  <a:pt x="160" y="365"/>
                  <a:pt x="92" y="342"/>
                </a:cubicBezTo>
                <a:cubicBezTo>
                  <a:pt x="85" y="331"/>
                  <a:pt x="61" y="280"/>
                  <a:pt x="32" y="294"/>
                </a:cubicBezTo>
                <a:cubicBezTo>
                  <a:pt x="21" y="300"/>
                  <a:pt x="24" y="318"/>
                  <a:pt x="20" y="330"/>
                </a:cubicBezTo>
                <a:cubicBezTo>
                  <a:pt x="95" y="355"/>
                  <a:pt x="16" y="341"/>
                  <a:pt x="92" y="294"/>
                </a:cubicBezTo>
                <a:cubicBezTo>
                  <a:pt x="109" y="283"/>
                  <a:pt x="132" y="286"/>
                  <a:pt x="152" y="282"/>
                </a:cubicBezTo>
                <a:cubicBezTo>
                  <a:pt x="156" y="270"/>
                  <a:pt x="164" y="259"/>
                  <a:pt x="164" y="246"/>
                </a:cubicBezTo>
                <a:cubicBezTo>
                  <a:pt x="164" y="190"/>
                  <a:pt x="117" y="219"/>
                  <a:pt x="200" y="198"/>
                </a:cubicBezTo>
                <a:cubicBezTo>
                  <a:pt x="204" y="186"/>
                  <a:pt x="212" y="175"/>
                  <a:pt x="212" y="162"/>
                </a:cubicBezTo>
                <a:cubicBezTo>
                  <a:pt x="212" y="149"/>
                  <a:pt x="213" y="126"/>
                  <a:pt x="200" y="126"/>
                </a:cubicBezTo>
                <a:cubicBezTo>
                  <a:pt x="187" y="126"/>
                  <a:pt x="192" y="150"/>
                  <a:pt x="188" y="162"/>
                </a:cubicBezTo>
                <a:cubicBezTo>
                  <a:pt x="247" y="182"/>
                  <a:pt x="293" y="172"/>
                  <a:pt x="344" y="138"/>
                </a:cubicBezTo>
                <a:cubicBezTo>
                  <a:pt x="340" y="126"/>
                  <a:pt x="345" y="102"/>
                  <a:pt x="332" y="102"/>
                </a:cubicBezTo>
                <a:cubicBezTo>
                  <a:pt x="318" y="102"/>
                  <a:pt x="302" y="125"/>
                  <a:pt x="308" y="138"/>
                </a:cubicBezTo>
                <a:cubicBezTo>
                  <a:pt x="314" y="149"/>
                  <a:pt x="332" y="130"/>
                  <a:pt x="344" y="126"/>
                </a:cubicBezTo>
                <a:cubicBezTo>
                  <a:pt x="340" y="110"/>
                  <a:pt x="346" y="69"/>
                  <a:pt x="332" y="78"/>
                </a:cubicBezTo>
                <a:cubicBezTo>
                  <a:pt x="311" y="92"/>
                  <a:pt x="316" y="126"/>
                  <a:pt x="308" y="150"/>
                </a:cubicBezTo>
                <a:cubicBezTo>
                  <a:pt x="303" y="166"/>
                  <a:pt x="276" y="157"/>
                  <a:pt x="260" y="162"/>
                </a:cubicBezTo>
                <a:cubicBezTo>
                  <a:pt x="248" y="165"/>
                  <a:pt x="236" y="170"/>
                  <a:pt x="224" y="174"/>
                </a:cubicBezTo>
                <a:cubicBezTo>
                  <a:pt x="179" y="219"/>
                  <a:pt x="125" y="249"/>
                  <a:pt x="80" y="294"/>
                </a:cubicBezTo>
                <a:cubicBezTo>
                  <a:pt x="84" y="314"/>
                  <a:pt x="79" y="338"/>
                  <a:pt x="92" y="354"/>
                </a:cubicBezTo>
                <a:cubicBezTo>
                  <a:pt x="115" y="382"/>
                  <a:pt x="153" y="362"/>
                  <a:pt x="176" y="354"/>
                </a:cubicBezTo>
                <a:cubicBezTo>
                  <a:pt x="216" y="235"/>
                  <a:pt x="120" y="154"/>
                  <a:pt x="248" y="90"/>
                </a:cubicBezTo>
                <a:cubicBezTo>
                  <a:pt x="318" y="113"/>
                  <a:pt x="377" y="70"/>
                  <a:pt x="404" y="150"/>
                </a:cubicBezTo>
                <a:cubicBezTo>
                  <a:pt x="457" y="132"/>
                  <a:pt x="469" y="140"/>
                  <a:pt x="500" y="186"/>
                </a:cubicBezTo>
                <a:cubicBezTo>
                  <a:pt x="491" y="189"/>
                  <a:pt x="410" y="224"/>
                  <a:pt x="488" y="162"/>
                </a:cubicBezTo>
                <a:cubicBezTo>
                  <a:pt x="498" y="154"/>
                  <a:pt x="512" y="154"/>
                  <a:pt x="524" y="150"/>
                </a:cubicBezTo>
                <a:cubicBezTo>
                  <a:pt x="561" y="162"/>
                  <a:pt x="588" y="158"/>
                  <a:pt x="536" y="210"/>
                </a:cubicBezTo>
                <a:cubicBezTo>
                  <a:pt x="527" y="219"/>
                  <a:pt x="541" y="185"/>
                  <a:pt x="548" y="174"/>
                </a:cubicBezTo>
                <a:cubicBezTo>
                  <a:pt x="557" y="160"/>
                  <a:pt x="572" y="150"/>
                  <a:pt x="584" y="138"/>
                </a:cubicBezTo>
                <a:cubicBezTo>
                  <a:pt x="600" y="142"/>
                  <a:pt x="622" y="137"/>
                  <a:pt x="632" y="150"/>
                </a:cubicBezTo>
                <a:cubicBezTo>
                  <a:pt x="658" y="184"/>
                  <a:pt x="590" y="196"/>
                  <a:pt x="584" y="198"/>
                </a:cubicBezTo>
                <a:cubicBezTo>
                  <a:pt x="609" y="123"/>
                  <a:pt x="659" y="152"/>
                  <a:pt x="728" y="162"/>
                </a:cubicBezTo>
                <a:cubicBezTo>
                  <a:pt x="725" y="178"/>
                  <a:pt x="720" y="258"/>
                  <a:pt x="680" y="258"/>
                </a:cubicBezTo>
                <a:cubicBezTo>
                  <a:pt x="667" y="258"/>
                  <a:pt x="659" y="231"/>
                  <a:pt x="668" y="222"/>
                </a:cubicBezTo>
                <a:cubicBezTo>
                  <a:pt x="677" y="213"/>
                  <a:pt x="692" y="230"/>
                  <a:pt x="704" y="234"/>
                </a:cubicBezTo>
                <a:cubicBezTo>
                  <a:pt x="673" y="326"/>
                  <a:pt x="702" y="201"/>
                  <a:pt x="776" y="294"/>
                </a:cubicBezTo>
                <a:cubicBezTo>
                  <a:pt x="787" y="307"/>
                  <a:pt x="724" y="335"/>
                  <a:pt x="740" y="330"/>
                </a:cubicBezTo>
                <a:cubicBezTo>
                  <a:pt x="752" y="326"/>
                  <a:pt x="776" y="318"/>
                  <a:pt x="776" y="318"/>
                </a:cubicBezTo>
                <a:cubicBezTo>
                  <a:pt x="784" y="330"/>
                  <a:pt x="803" y="340"/>
                  <a:pt x="800" y="354"/>
                </a:cubicBezTo>
                <a:cubicBezTo>
                  <a:pt x="797" y="366"/>
                  <a:pt x="758" y="355"/>
                  <a:pt x="764" y="366"/>
                </a:cubicBezTo>
                <a:cubicBezTo>
                  <a:pt x="771" y="381"/>
                  <a:pt x="796" y="374"/>
                  <a:pt x="812" y="378"/>
                </a:cubicBezTo>
                <a:cubicBezTo>
                  <a:pt x="686" y="472"/>
                  <a:pt x="798" y="369"/>
                  <a:pt x="812" y="426"/>
                </a:cubicBezTo>
                <a:cubicBezTo>
                  <a:pt x="816" y="442"/>
                  <a:pt x="788" y="450"/>
                  <a:pt x="776" y="462"/>
                </a:cubicBezTo>
                <a:cubicBezTo>
                  <a:pt x="788" y="466"/>
                  <a:pt x="818" y="463"/>
                  <a:pt x="812" y="474"/>
                </a:cubicBezTo>
                <a:cubicBezTo>
                  <a:pt x="805" y="489"/>
                  <a:pt x="776" y="498"/>
                  <a:pt x="764" y="486"/>
                </a:cubicBezTo>
                <a:cubicBezTo>
                  <a:pt x="740" y="462"/>
                  <a:pt x="806" y="408"/>
                  <a:pt x="812" y="402"/>
                </a:cubicBezTo>
                <a:cubicBezTo>
                  <a:pt x="808" y="366"/>
                  <a:pt x="820" y="324"/>
                  <a:pt x="800" y="294"/>
                </a:cubicBezTo>
                <a:cubicBezTo>
                  <a:pt x="791" y="280"/>
                  <a:pt x="769" y="314"/>
                  <a:pt x="764" y="330"/>
                </a:cubicBezTo>
                <a:cubicBezTo>
                  <a:pt x="760" y="342"/>
                  <a:pt x="772" y="354"/>
                  <a:pt x="776" y="366"/>
                </a:cubicBezTo>
                <a:cubicBezTo>
                  <a:pt x="781" y="365"/>
                  <a:pt x="871" y="365"/>
                  <a:pt x="848" y="318"/>
                </a:cubicBezTo>
                <a:cubicBezTo>
                  <a:pt x="839" y="300"/>
                  <a:pt x="816" y="294"/>
                  <a:pt x="800" y="282"/>
                </a:cubicBezTo>
                <a:cubicBezTo>
                  <a:pt x="687" y="305"/>
                  <a:pt x="756" y="305"/>
                  <a:pt x="764" y="258"/>
                </a:cubicBezTo>
                <a:cubicBezTo>
                  <a:pt x="766" y="246"/>
                  <a:pt x="756" y="234"/>
                  <a:pt x="752" y="222"/>
                </a:cubicBezTo>
                <a:cubicBezTo>
                  <a:pt x="716" y="230"/>
                  <a:pt x="644" y="246"/>
                  <a:pt x="644" y="246"/>
                </a:cubicBezTo>
                <a:cubicBezTo>
                  <a:pt x="620" y="161"/>
                  <a:pt x="624" y="151"/>
                  <a:pt x="548" y="126"/>
                </a:cubicBezTo>
                <a:cubicBezTo>
                  <a:pt x="470" y="152"/>
                  <a:pt x="543" y="139"/>
                  <a:pt x="524" y="90"/>
                </a:cubicBezTo>
                <a:cubicBezTo>
                  <a:pt x="519" y="78"/>
                  <a:pt x="500" y="82"/>
                  <a:pt x="488" y="78"/>
                </a:cubicBezTo>
                <a:cubicBezTo>
                  <a:pt x="492" y="98"/>
                  <a:pt x="482" y="129"/>
                  <a:pt x="500" y="138"/>
                </a:cubicBezTo>
                <a:cubicBezTo>
                  <a:pt x="515" y="145"/>
                  <a:pt x="512" y="106"/>
                  <a:pt x="512" y="90"/>
                </a:cubicBezTo>
                <a:cubicBezTo>
                  <a:pt x="512" y="51"/>
                  <a:pt x="492" y="48"/>
                  <a:pt x="464" y="30"/>
                </a:cubicBezTo>
                <a:cubicBezTo>
                  <a:pt x="403" y="60"/>
                  <a:pt x="394" y="60"/>
                  <a:pt x="416" y="126"/>
                </a:cubicBezTo>
                <a:cubicBezTo>
                  <a:pt x="420" y="114"/>
                  <a:pt x="433" y="102"/>
                  <a:pt x="428" y="90"/>
                </a:cubicBezTo>
                <a:cubicBezTo>
                  <a:pt x="403" y="29"/>
                  <a:pt x="324" y="95"/>
                  <a:pt x="296" y="114"/>
                </a:cubicBezTo>
                <a:cubicBezTo>
                  <a:pt x="296" y="114"/>
                  <a:pt x="272" y="98"/>
                  <a:pt x="260" y="90"/>
                </a:cubicBezTo>
                <a:cubicBezTo>
                  <a:pt x="254" y="109"/>
                  <a:pt x="231" y="156"/>
                  <a:pt x="260" y="174"/>
                </a:cubicBezTo>
                <a:cubicBezTo>
                  <a:pt x="274" y="182"/>
                  <a:pt x="292" y="166"/>
                  <a:pt x="308" y="162"/>
                </a:cubicBezTo>
                <a:cubicBezTo>
                  <a:pt x="312" y="150"/>
                  <a:pt x="333" y="126"/>
                  <a:pt x="320" y="126"/>
                </a:cubicBezTo>
                <a:cubicBezTo>
                  <a:pt x="306" y="126"/>
                  <a:pt x="298" y="148"/>
                  <a:pt x="296" y="162"/>
                </a:cubicBezTo>
                <a:cubicBezTo>
                  <a:pt x="294" y="174"/>
                  <a:pt x="304" y="186"/>
                  <a:pt x="308" y="198"/>
                </a:cubicBezTo>
                <a:cubicBezTo>
                  <a:pt x="336" y="194"/>
                  <a:pt x="369" y="203"/>
                  <a:pt x="392" y="186"/>
                </a:cubicBezTo>
                <a:cubicBezTo>
                  <a:pt x="404" y="177"/>
                  <a:pt x="370" y="159"/>
                  <a:pt x="356" y="162"/>
                </a:cubicBezTo>
                <a:cubicBezTo>
                  <a:pt x="342" y="165"/>
                  <a:pt x="340" y="186"/>
                  <a:pt x="332" y="198"/>
                </a:cubicBezTo>
                <a:cubicBezTo>
                  <a:pt x="297" y="186"/>
                  <a:pt x="261" y="168"/>
                  <a:pt x="224" y="198"/>
                </a:cubicBezTo>
                <a:cubicBezTo>
                  <a:pt x="214" y="206"/>
                  <a:pt x="232" y="222"/>
                  <a:pt x="236" y="234"/>
                </a:cubicBezTo>
                <a:cubicBezTo>
                  <a:pt x="260" y="230"/>
                  <a:pt x="288" y="235"/>
                  <a:pt x="308" y="222"/>
                </a:cubicBezTo>
                <a:cubicBezTo>
                  <a:pt x="319" y="215"/>
                  <a:pt x="279" y="199"/>
                  <a:pt x="272" y="210"/>
                </a:cubicBezTo>
                <a:cubicBezTo>
                  <a:pt x="263" y="224"/>
                  <a:pt x="280" y="242"/>
                  <a:pt x="284" y="258"/>
                </a:cubicBezTo>
                <a:cubicBezTo>
                  <a:pt x="320" y="250"/>
                  <a:pt x="359" y="250"/>
                  <a:pt x="392" y="234"/>
                </a:cubicBezTo>
                <a:cubicBezTo>
                  <a:pt x="403" y="228"/>
                  <a:pt x="413" y="207"/>
                  <a:pt x="404" y="198"/>
                </a:cubicBezTo>
                <a:cubicBezTo>
                  <a:pt x="395" y="189"/>
                  <a:pt x="380" y="206"/>
                  <a:pt x="368" y="210"/>
                </a:cubicBezTo>
                <a:cubicBezTo>
                  <a:pt x="392" y="281"/>
                  <a:pt x="359" y="224"/>
                  <a:pt x="440" y="234"/>
                </a:cubicBezTo>
                <a:cubicBezTo>
                  <a:pt x="454" y="236"/>
                  <a:pt x="464" y="250"/>
                  <a:pt x="476" y="258"/>
                </a:cubicBezTo>
                <a:cubicBezTo>
                  <a:pt x="496" y="254"/>
                  <a:pt x="522" y="260"/>
                  <a:pt x="536" y="246"/>
                </a:cubicBezTo>
                <a:cubicBezTo>
                  <a:pt x="545" y="237"/>
                  <a:pt x="500" y="221"/>
                  <a:pt x="500" y="234"/>
                </a:cubicBezTo>
                <a:cubicBezTo>
                  <a:pt x="500" y="248"/>
                  <a:pt x="524" y="250"/>
                  <a:pt x="536" y="258"/>
                </a:cubicBezTo>
                <a:cubicBezTo>
                  <a:pt x="602" y="242"/>
                  <a:pt x="599" y="236"/>
                  <a:pt x="620" y="174"/>
                </a:cubicBezTo>
                <a:cubicBezTo>
                  <a:pt x="635" y="218"/>
                  <a:pt x="626" y="221"/>
                  <a:pt x="644" y="186"/>
                </a:cubicBezTo>
                <a:lnTo>
                  <a:pt x="896" y="222"/>
                </a:lnTo>
              </a:path>
            </a:pathLst>
          </a:custGeom>
          <a:noFill/>
          <a:ln w="9360">
            <a:solidFill>
              <a:srgbClr val="99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419200" y="3848040"/>
            <a:ext cx="990720" cy="1577880"/>
          </a:xfrm>
          <a:custGeom>
            <a:avLst/>
            <a:gdLst/>
            <a:ahLst/>
            <a:rect l="l" t="t" r="r" b="b"/>
            <a:pathLst>
              <a:path w="624" h="994">
                <a:moveTo>
                  <a:pt x="264" y="0"/>
                </a:moveTo>
                <a:cubicBezTo>
                  <a:pt x="260" y="128"/>
                  <a:pt x="281" y="259"/>
                  <a:pt x="252" y="384"/>
                </a:cubicBezTo>
                <a:cubicBezTo>
                  <a:pt x="246" y="409"/>
                  <a:pt x="204" y="368"/>
                  <a:pt x="180" y="360"/>
                </a:cubicBezTo>
                <a:cubicBezTo>
                  <a:pt x="144" y="348"/>
                  <a:pt x="108" y="336"/>
                  <a:pt x="72" y="324"/>
                </a:cubicBezTo>
                <a:cubicBezTo>
                  <a:pt x="48" y="316"/>
                  <a:pt x="0" y="300"/>
                  <a:pt x="0" y="300"/>
                </a:cubicBezTo>
                <a:cubicBezTo>
                  <a:pt x="0" y="300"/>
                  <a:pt x="24" y="308"/>
                  <a:pt x="36" y="312"/>
                </a:cubicBezTo>
                <a:cubicBezTo>
                  <a:pt x="88" y="329"/>
                  <a:pt x="60" y="321"/>
                  <a:pt x="120" y="336"/>
                </a:cubicBezTo>
                <a:cubicBezTo>
                  <a:pt x="148" y="378"/>
                  <a:pt x="168" y="392"/>
                  <a:pt x="216" y="408"/>
                </a:cubicBezTo>
                <a:cubicBezTo>
                  <a:pt x="380" y="353"/>
                  <a:pt x="316" y="693"/>
                  <a:pt x="204" y="768"/>
                </a:cubicBezTo>
                <a:cubicBezTo>
                  <a:pt x="165" y="826"/>
                  <a:pt x="142" y="897"/>
                  <a:pt x="84" y="936"/>
                </a:cubicBezTo>
                <a:cubicBezTo>
                  <a:pt x="88" y="924"/>
                  <a:pt x="85" y="906"/>
                  <a:pt x="96" y="900"/>
                </a:cubicBezTo>
                <a:cubicBezTo>
                  <a:pt x="117" y="888"/>
                  <a:pt x="145" y="896"/>
                  <a:pt x="168" y="888"/>
                </a:cubicBezTo>
                <a:cubicBezTo>
                  <a:pt x="182" y="883"/>
                  <a:pt x="192" y="872"/>
                  <a:pt x="204" y="864"/>
                </a:cubicBezTo>
                <a:cubicBezTo>
                  <a:pt x="217" y="825"/>
                  <a:pt x="202" y="775"/>
                  <a:pt x="228" y="744"/>
                </a:cubicBezTo>
                <a:cubicBezTo>
                  <a:pt x="239" y="731"/>
                  <a:pt x="260" y="752"/>
                  <a:pt x="276" y="756"/>
                </a:cubicBezTo>
                <a:cubicBezTo>
                  <a:pt x="332" y="840"/>
                  <a:pt x="268" y="733"/>
                  <a:pt x="312" y="852"/>
                </a:cubicBezTo>
                <a:cubicBezTo>
                  <a:pt x="322" y="879"/>
                  <a:pt x="353" y="905"/>
                  <a:pt x="372" y="924"/>
                </a:cubicBezTo>
                <a:cubicBezTo>
                  <a:pt x="376" y="936"/>
                  <a:pt x="376" y="950"/>
                  <a:pt x="384" y="960"/>
                </a:cubicBezTo>
                <a:cubicBezTo>
                  <a:pt x="393" y="971"/>
                  <a:pt x="410" y="994"/>
                  <a:pt x="420" y="984"/>
                </a:cubicBezTo>
                <a:cubicBezTo>
                  <a:pt x="432" y="972"/>
                  <a:pt x="413" y="952"/>
                  <a:pt x="408" y="936"/>
                </a:cubicBezTo>
                <a:cubicBezTo>
                  <a:pt x="391" y="877"/>
                  <a:pt x="361" y="837"/>
                  <a:pt x="312" y="804"/>
                </a:cubicBezTo>
                <a:cubicBezTo>
                  <a:pt x="242" y="699"/>
                  <a:pt x="267" y="565"/>
                  <a:pt x="252" y="444"/>
                </a:cubicBezTo>
                <a:cubicBezTo>
                  <a:pt x="262" y="415"/>
                  <a:pt x="265" y="395"/>
                  <a:pt x="288" y="372"/>
                </a:cubicBezTo>
                <a:cubicBezTo>
                  <a:pt x="320" y="340"/>
                  <a:pt x="367" y="336"/>
                  <a:pt x="408" y="324"/>
                </a:cubicBezTo>
                <a:cubicBezTo>
                  <a:pt x="493" y="298"/>
                  <a:pt x="624" y="257"/>
                  <a:pt x="624" y="144"/>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066680" y="3429000"/>
            <a:ext cx="15242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h bin</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u</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nson</a:t>
            </a:r>
            <a:endParaRPr b="0" lang="en-US" sz="2000" spc="-1" strike="noStrike">
              <a:solidFill>
                <a:srgbClr val="ffffff"/>
              </a:solidFill>
              <a:latin typeface="Times New Roman"/>
            </a:endParaRPr>
          </a:p>
        </p:txBody>
      </p:sp>
      <p:sp>
        <p:nvSpPr>
          <p:cNvPr id="181" name=""/>
          <p:cNvSpPr/>
          <p:nvPr/>
        </p:nvSpPr>
        <p:spPr>
          <a:xfrm>
            <a:off x="3962520" y="2362320"/>
            <a:ext cx="46479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a:t>
            </a:r>
            <a:r>
              <a:rPr b="1" lang="en-US" sz="2800" spc="-1" strike="noStrike">
                <a:solidFill>
                  <a:srgbClr val="ff3305"/>
                </a:solidFill>
                <a:latin typeface="Arial"/>
              </a:rPr>
              <a:t>du??</a:t>
            </a:r>
            <a:r>
              <a:rPr b="1" lang="en-US" sz="2800" spc="-1" strike="noStrike">
                <a:solidFill>
                  <a:srgbClr val="ffffff"/>
                </a:solidFill>
                <a:latin typeface="Arial"/>
              </a:rPr>
              <a:t>  </a:t>
            </a:r>
            <a:r>
              <a:rPr b="1" lang="en-US" sz="2400" spc="-1" strike="noStrike">
                <a:solidFill>
                  <a:srgbClr val="ffffff"/>
                </a:solidFill>
                <a:latin typeface="Arial"/>
              </a:rPr>
              <a:t>Wer bist </a:t>
            </a:r>
            <a:r>
              <a:rPr b="1" lang="en-US" sz="2400" spc="-1" strike="noStrike">
                <a:solidFill>
                  <a:srgbClr val="ff3305"/>
                </a:solidFill>
                <a:latin typeface="Arial"/>
              </a:rPr>
              <a:t>du?</a:t>
            </a:r>
            <a:endParaRPr b="0" lang="en-US" sz="2400" spc="-1" strike="noStrike">
              <a:solidFill>
                <a:srgbClr val="ffffff"/>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ch bin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lfgang…Wolfi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82" name=""/>
          <p:cNvSpPr/>
          <p:nvPr/>
        </p:nvSpPr>
        <p:spPr>
          <a:xfrm>
            <a:off x="6858000" y="3657600"/>
            <a:ext cx="762120" cy="762120"/>
          </a:xfrm>
          <a:prstGeom prst="smileyFace">
            <a:avLst>
              <a:gd name="adj" fmla="val 9282"/>
            </a:avLst>
          </a:prstGeom>
          <a:solidFill>
            <a:srgbClr val="996600"/>
          </a:solidFill>
          <a:ln w="93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726240" y="3425760"/>
            <a:ext cx="995400" cy="511200"/>
          </a:xfrm>
          <a:custGeom>
            <a:avLst/>
            <a:gdLst/>
            <a:ahLst/>
            <a:rect l="l" t="t" r="r" b="b"/>
            <a:pathLst>
              <a:path w="627" h="322">
                <a:moveTo>
                  <a:pt x="563" y="290"/>
                </a:moveTo>
                <a:cubicBezTo>
                  <a:pt x="617" y="236"/>
                  <a:pt x="594" y="270"/>
                  <a:pt x="623" y="182"/>
                </a:cubicBezTo>
                <a:cubicBezTo>
                  <a:pt x="627" y="170"/>
                  <a:pt x="620" y="209"/>
                  <a:pt x="611" y="218"/>
                </a:cubicBezTo>
                <a:cubicBezTo>
                  <a:pt x="587" y="242"/>
                  <a:pt x="539" y="290"/>
                  <a:pt x="539" y="290"/>
                </a:cubicBezTo>
                <a:cubicBezTo>
                  <a:pt x="531" y="278"/>
                  <a:pt x="517" y="268"/>
                  <a:pt x="515" y="254"/>
                </a:cubicBezTo>
                <a:cubicBezTo>
                  <a:pt x="513" y="242"/>
                  <a:pt x="525" y="231"/>
                  <a:pt x="527" y="218"/>
                </a:cubicBezTo>
                <a:cubicBezTo>
                  <a:pt x="533" y="178"/>
                  <a:pt x="539" y="138"/>
                  <a:pt x="539" y="98"/>
                </a:cubicBezTo>
                <a:cubicBezTo>
                  <a:pt x="539" y="82"/>
                  <a:pt x="532" y="130"/>
                  <a:pt x="527" y="146"/>
                </a:cubicBezTo>
                <a:cubicBezTo>
                  <a:pt x="513" y="195"/>
                  <a:pt x="519" y="178"/>
                  <a:pt x="479" y="218"/>
                </a:cubicBezTo>
                <a:cubicBezTo>
                  <a:pt x="407" y="194"/>
                  <a:pt x="428" y="139"/>
                  <a:pt x="419" y="62"/>
                </a:cubicBezTo>
                <a:cubicBezTo>
                  <a:pt x="415" y="102"/>
                  <a:pt x="432" y="150"/>
                  <a:pt x="407" y="182"/>
                </a:cubicBezTo>
                <a:cubicBezTo>
                  <a:pt x="351" y="254"/>
                  <a:pt x="328" y="148"/>
                  <a:pt x="323" y="134"/>
                </a:cubicBezTo>
                <a:cubicBezTo>
                  <a:pt x="319" y="154"/>
                  <a:pt x="329" y="184"/>
                  <a:pt x="311" y="194"/>
                </a:cubicBezTo>
                <a:cubicBezTo>
                  <a:pt x="295" y="203"/>
                  <a:pt x="226" y="178"/>
                  <a:pt x="203" y="170"/>
                </a:cubicBezTo>
                <a:cubicBezTo>
                  <a:pt x="193" y="140"/>
                  <a:pt x="106" y="0"/>
                  <a:pt x="155" y="98"/>
                </a:cubicBezTo>
                <a:cubicBezTo>
                  <a:pt x="161" y="111"/>
                  <a:pt x="171" y="122"/>
                  <a:pt x="179" y="134"/>
                </a:cubicBezTo>
                <a:cubicBezTo>
                  <a:pt x="175" y="162"/>
                  <a:pt x="182" y="194"/>
                  <a:pt x="167" y="218"/>
                </a:cubicBezTo>
                <a:cubicBezTo>
                  <a:pt x="158" y="232"/>
                  <a:pt x="133" y="221"/>
                  <a:pt x="119" y="230"/>
                </a:cubicBezTo>
                <a:cubicBezTo>
                  <a:pt x="107" y="238"/>
                  <a:pt x="103" y="254"/>
                  <a:pt x="95" y="266"/>
                </a:cubicBezTo>
                <a:cubicBezTo>
                  <a:pt x="79" y="262"/>
                  <a:pt x="63" y="259"/>
                  <a:pt x="47" y="254"/>
                </a:cubicBezTo>
                <a:cubicBezTo>
                  <a:pt x="35" y="251"/>
                  <a:pt x="0" y="235"/>
                  <a:pt x="11" y="242"/>
                </a:cubicBezTo>
                <a:cubicBezTo>
                  <a:pt x="23" y="250"/>
                  <a:pt x="34" y="260"/>
                  <a:pt x="47" y="266"/>
                </a:cubicBezTo>
                <a:cubicBezTo>
                  <a:pt x="58" y="272"/>
                  <a:pt x="71" y="274"/>
                  <a:pt x="83" y="278"/>
                </a:cubicBezTo>
                <a:cubicBezTo>
                  <a:pt x="107" y="274"/>
                  <a:pt x="134" y="278"/>
                  <a:pt x="155" y="266"/>
                </a:cubicBezTo>
                <a:cubicBezTo>
                  <a:pt x="166" y="260"/>
                  <a:pt x="154" y="230"/>
                  <a:pt x="167" y="230"/>
                </a:cubicBezTo>
                <a:cubicBezTo>
                  <a:pt x="180" y="230"/>
                  <a:pt x="173" y="255"/>
                  <a:pt x="179" y="266"/>
                </a:cubicBezTo>
                <a:cubicBezTo>
                  <a:pt x="185" y="279"/>
                  <a:pt x="195" y="290"/>
                  <a:pt x="203" y="302"/>
                </a:cubicBezTo>
                <a:cubicBezTo>
                  <a:pt x="232" y="216"/>
                  <a:pt x="213" y="209"/>
                  <a:pt x="251" y="266"/>
                </a:cubicBezTo>
                <a:cubicBezTo>
                  <a:pt x="267" y="258"/>
                  <a:pt x="281" y="245"/>
                  <a:pt x="299" y="242"/>
                </a:cubicBezTo>
                <a:cubicBezTo>
                  <a:pt x="363" y="233"/>
                  <a:pt x="324" y="322"/>
                  <a:pt x="347" y="182"/>
                </a:cubicBezTo>
                <a:cubicBezTo>
                  <a:pt x="350" y="192"/>
                  <a:pt x="361" y="262"/>
                  <a:pt x="383" y="266"/>
                </a:cubicBezTo>
                <a:cubicBezTo>
                  <a:pt x="397" y="269"/>
                  <a:pt x="407" y="250"/>
                  <a:pt x="419" y="242"/>
                </a:cubicBezTo>
                <a:cubicBezTo>
                  <a:pt x="461" y="179"/>
                  <a:pt x="425" y="209"/>
                  <a:pt x="467" y="242"/>
                </a:cubicBezTo>
                <a:cubicBezTo>
                  <a:pt x="477" y="250"/>
                  <a:pt x="491" y="250"/>
                  <a:pt x="503" y="254"/>
                </a:cubicBezTo>
                <a:cubicBezTo>
                  <a:pt x="433" y="149"/>
                  <a:pt x="484" y="185"/>
                  <a:pt x="335" y="170"/>
                </a:cubicBezTo>
                <a:cubicBezTo>
                  <a:pt x="317" y="116"/>
                  <a:pt x="299" y="71"/>
                  <a:pt x="299" y="14"/>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767640" y="4476600"/>
            <a:ext cx="909360" cy="1162080"/>
          </a:xfrm>
          <a:custGeom>
            <a:avLst/>
            <a:gdLst/>
            <a:ahLst/>
            <a:rect l="l" t="t" r="r" b="b"/>
            <a:pathLst>
              <a:path w="573" h="732">
                <a:moveTo>
                  <a:pt x="237" y="0"/>
                </a:moveTo>
                <a:cubicBezTo>
                  <a:pt x="375" y="92"/>
                  <a:pt x="317" y="334"/>
                  <a:pt x="189" y="420"/>
                </a:cubicBezTo>
                <a:cubicBezTo>
                  <a:pt x="181" y="432"/>
                  <a:pt x="175" y="446"/>
                  <a:pt x="165" y="456"/>
                </a:cubicBezTo>
                <a:cubicBezTo>
                  <a:pt x="155" y="466"/>
                  <a:pt x="138" y="469"/>
                  <a:pt x="129" y="480"/>
                </a:cubicBezTo>
                <a:cubicBezTo>
                  <a:pt x="121" y="490"/>
                  <a:pt x="123" y="505"/>
                  <a:pt x="117" y="516"/>
                </a:cubicBezTo>
                <a:cubicBezTo>
                  <a:pt x="99" y="552"/>
                  <a:pt x="73" y="587"/>
                  <a:pt x="57" y="624"/>
                </a:cubicBezTo>
                <a:cubicBezTo>
                  <a:pt x="47" y="647"/>
                  <a:pt x="41" y="672"/>
                  <a:pt x="33" y="696"/>
                </a:cubicBezTo>
                <a:cubicBezTo>
                  <a:pt x="29" y="708"/>
                  <a:pt x="21" y="732"/>
                  <a:pt x="21" y="732"/>
                </a:cubicBezTo>
                <a:cubicBezTo>
                  <a:pt x="17" y="720"/>
                  <a:pt x="9" y="709"/>
                  <a:pt x="9" y="696"/>
                </a:cubicBezTo>
                <a:cubicBezTo>
                  <a:pt x="9" y="652"/>
                  <a:pt x="0" y="603"/>
                  <a:pt x="21" y="564"/>
                </a:cubicBezTo>
                <a:cubicBezTo>
                  <a:pt x="33" y="542"/>
                  <a:pt x="69" y="548"/>
                  <a:pt x="93" y="540"/>
                </a:cubicBezTo>
                <a:cubicBezTo>
                  <a:pt x="143" y="523"/>
                  <a:pt x="118" y="535"/>
                  <a:pt x="165" y="504"/>
                </a:cubicBezTo>
                <a:cubicBezTo>
                  <a:pt x="211" y="435"/>
                  <a:pt x="263" y="301"/>
                  <a:pt x="153" y="264"/>
                </a:cubicBezTo>
                <a:cubicBezTo>
                  <a:pt x="269" y="260"/>
                  <a:pt x="385" y="262"/>
                  <a:pt x="501" y="252"/>
                </a:cubicBezTo>
                <a:cubicBezTo>
                  <a:pt x="526" y="250"/>
                  <a:pt x="573" y="228"/>
                  <a:pt x="573" y="228"/>
                </a:cubicBezTo>
                <a:cubicBezTo>
                  <a:pt x="551" y="138"/>
                  <a:pt x="522" y="168"/>
                  <a:pt x="429" y="180"/>
                </a:cubicBezTo>
                <a:cubicBezTo>
                  <a:pt x="417" y="188"/>
                  <a:pt x="403" y="194"/>
                  <a:pt x="393" y="204"/>
                </a:cubicBezTo>
                <a:cubicBezTo>
                  <a:pt x="383" y="214"/>
                  <a:pt x="380" y="231"/>
                  <a:pt x="369" y="240"/>
                </a:cubicBezTo>
                <a:cubicBezTo>
                  <a:pt x="347" y="259"/>
                  <a:pt x="321" y="272"/>
                  <a:pt x="297" y="288"/>
                </a:cubicBezTo>
                <a:cubicBezTo>
                  <a:pt x="285" y="296"/>
                  <a:pt x="261" y="312"/>
                  <a:pt x="261" y="312"/>
                </a:cubicBezTo>
                <a:cubicBezTo>
                  <a:pt x="265" y="332"/>
                  <a:pt x="268" y="352"/>
                  <a:pt x="273" y="372"/>
                </a:cubicBezTo>
                <a:cubicBezTo>
                  <a:pt x="280" y="396"/>
                  <a:pt x="297" y="444"/>
                  <a:pt x="297" y="444"/>
                </a:cubicBezTo>
                <a:cubicBezTo>
                  <a:pt x="305" y="543"/>
                  <a:pt x="318" y="604"/>
                  <a:pt x="333" y="696"/>
                </a:cubicBezTo>
                <a:cubicBezTo>
                  <a:pt x="381" y="692"/>
                  <a:pt x="432" y="702"/>
                  <a:pt x="477" y="684"/>
                </a:cubicBezTo>
                <a:cubicBezTo>
                  <a:pt x="490" y="679"/>
                  <a:pt x="467" y="652"/>
                  <a:pt x="453" y="648"/>
                </a:cubicBezTo>
                <a:cubicBezTo>
                  <a:pt x="407" y="635"/>
                  <a:pt x="357" y="640"/>
                  <a:pt x="309" y="636"/>
                </a:cubicBezTo>
                <a:cubicBezTo>
                  <a:pt x="298" y="550"/>
                  <a:pt x="276" y="477"/>
                  <a:pt x="249" y="396"/>
                </a:cubicBezTo>
                <a:cubicBezTo>
                  <a:pt x="245" y="384"/>
                  <a:pt x="241" y="372"/>
                  <a:pt x="237" y="360"/>
                </a:cubicBezTo>
                <a:cubicBezTo>
                  <a:pt x="233" y="348"/>
                  <a:pt x="238" y="326"/>
                  <a:pt x="225" y="324"/>
                </a:cubicBezTo>
                <a:cubicBezTo>
                  <a:pt x="193" y="320"/>
                  <a:pt x="161" y="316"/>
                  <a:pt x="129" y="312"/>
                </a:cubicBezTo>
                <a:cubicBezTo>
                  <a:pt x="111" y="300"/>
                  <a:pt x="82" y="276"/>
                  <a:pt x="57" y="276"/>
                </a:cubicBezTo>
                <a:cubicBezTo>
                  <a:pt x="44" y="276"/>
                  <a:pt x="21" y="301"/>
                  <a:pt x="21" y="288"/>
                </a:cubicBezTo>
                <a:cubicBezTo>
                  <a:pt x="21" y="274"/>
                  <a:pt x="43" y="266"/>
                  <a:pt x="57" y="264"/>
                </a:cubicBezTo>
                <a:cubicBezTo>
                  <a:pt x="117" y="257"/>
                  <a:pt x="177" y="264"/>
                  <a:pt x="237" y="26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flipV="1">
            <a:off x="6248520" y="4343040"/>
            <a:ext cx="838080" cy="228600"/>
          </a:xfrm>
          <a:prstGeom prst="line">
            <a:avLst/>
          </a:prstGeom>
          <a:ln w="9360">
            <a:solidFill>
              <a:srgbClr val="ff33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a:off x="2209680" y="3809880"/>
            <a:ext cx="533520" cy="228600"/>
          </a:xfrm>
          <a:prstGeom prst="line">
            <a:avLst/>
          </a:prstGeom>
          <a:ln w="9360">
            <a:solidFill>
              <a:srgbClr val="ff33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icipant Outcomes </a:t>
            </a:r>
            <a:br>
              <a:rPr sz="4000"/>
            </a:br>
            <a:r>
              <a:rPr b="0" lang="en-US" sz="4000" spc="-1" strike="noStrike">
                <a:solidFill>
                  <a:srgbClr val="ffffcc"/>
                </a:solidFill>
                <a:latin typeface="Arial"/>
              </a:rPr>
              <a:t>Tuesday, 14 August Work Session</a:t>
            </a:r>
            <a:endParaRPr b="0" lang="en-US" sz="4000" spc="-1" strike="noStrike">
              <a:solidFill>
                <a:srgbClr val="ffffcc"/>
              </a:solidFill>
              <a:latin typeface="Arial"/>
            </a:endParaRPr>
          </a:p>
        </p:txBody>
      </p:sp>
      <p:sp>
        <p:nvSpPr>
          <p:cNvPr id="188" name="PlaceHolder 2"/>
          <p:cNvSpPr>
            <a:spLocks noGrp="1"/>
          </p:cNvSpPr>
          <p:nvPr>
            <p:ph/>
          </p:nvPr>
        </p:nvSpPr>
        <p:spPr>
          <a:xfrm>
            <a:off x="457200" y="1599840"/>
            <a:ext cx="46800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organizational decisions in planning for initial days of cla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type of relationship between the outcome and the end-of-lesson assessment (EOLA).</a:t>
            </a:r>
            <a:endParaRPr b="0" lang="en-US" sz="2800" spc="-1" strike="noStrike">
              <a:solidFill>
                <a:srgbClr val="ffffff"/>
              </a:solidFill>
              <a:latin typeface="Verdana"/>
            </a:endParaRPr>
          </a:p>
        </p:txBody>
      </p:sp>
      <p:pic>
        <p:nvPicPr>
          <p:cNvPr id="189" name="" descr=""/>
          <p:cNvPicPr/>
          <p:nvPr/>
        </p:nvPicPr>
        <p:blipFill>
          <a:blip r:embed="rId1"/>
          <a:stretch/>
        </p:blipFill>
        <p:spPr>
          <a:xfrm>
            <a:off x="5715000" y="2514600"/>
            <a:ext cx="3809880" cy="286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7" dur="500"/>
                                        <p:tgtEl>
                                          <p:spTgt spid="1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12" dur="500"/>
                                        <p:tgtEl>
                                          <p:spTgt spid="188">
                                            <p:txEl>
                                              <p:pRg st="3" end="3"/>
                                            </p:txEl>
                                          </p:spTgt>
                                        </p:tgtEl>
                                      </p:cBhvr>
                                    </p:animEffect>
                                  </p:childTnLst>
                                </p:cTn>
                              </p:par>
                              <p:animClr clrSpc="rgb">
                                <p:cBhvr>
                                  <p:cTn id="13" dur="1" fill="hold">
                                    <p:stCondLst>
                                      <p:cond delay="0"/>
                                    </p:stCondLst>
                                  </p:cTn>
                                  <p:tgtEl>
                                    <p:spTgt spid="188">
                                      <p:txEl>
                                        <p:pRg st="1" end="1"/>
                                      </p:txEl>
                                    </p:spTgt>
                                  </p:tgtEl>
                                  <p:attrNameLst>
                                    <p:attrName>ppt_c</p:attrName>
                                  </p:attrNameLst>
                                </p:cBhvr>
                                <p:to>
                                  <a:srgbClr val="ffffcc"/>
                                </p:to>
                              </p:animClr>
                            </p:childTnLst>
                          </p:cTn>
                        </p:par>
                      </p:childTnLst>
                    </p:cTn>
                  </p:par>
                  <p:par>
                    <p:cTn id="14" fill="hold">
                      <p:stCondLst>
                        <p:cond delay="indefinite"/>
                      </p:stCondLst>
                      <p:childTnLst>
                        <p:par>
                          <p:cTn id="15" fill="hold">
                            <p:stCondLst>
                              <p:cond delay="0"/>
                            </p:stCondLst>
                            <p:childTnLst>
                              <p:animClr clrSpc="rgb">
                                <p:cBhvr>
                                  <p:cTn id="16" dur="1" fill="hold"/>
                                  <p:tgtEl>
                                    <p:spTgt spid="188">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Tuesday, 14 August 2007</a:t>
            </a:r>
            <a:br>
              <a:rPr sz="4000"/>
            </a:br>
            <a:r>
              <a:rPr b="0" lang="en-US" sz="4000" spc="-1" strike="noStrike">
                <a:solidFill>
                  <a:srgbClr val="ffffcc"/>
                </a:solidFill>
                <a:latin typeface="Arial"/>
              </a:rPr>
              <a:t> AM Agenda </a:t>
            </a:r>
            <a:endParaRPr b="0" lang="en-US" sz="4000" spc="-1" strike="noStrike">
              <a:solidFill>
                <a:srgbClr val="ffffcc"/>
              </a:solidFill>
              <a:latin typeface="Arial"/>
            </a:endParaRPr>
          </a:p>
        </p:txBody>
      </p:sp>
      <p:sp>
        <p:nvSpPr>
          <p:cNvPr id="191"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lcome—9:10-11:25</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roductions – German communicative/introductory activity</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1</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igating the Binder</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hilosophy of a teacher</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ntents</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2" name="" descr=""/>
          <p:cNvPicPr/>
          <p:nvPr/>
        </p:nvPicPr>
        <p:blipFill>
          <a:blip r:embed="rId1"/>
          <a:stretch/>
        </p:blipFill>
        <p:spPr>
          <a:xfrm>
            <a:off x="6505560" y="4191120"/>
            <a:ext cx="1495440" cy="170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CL AM Agenda (continued)</a:t>
            </a: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ready for the first day</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ing students – seating charts</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urse outlines -rules, grading, legality</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exts (care of)</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ily procedures / routines</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ing prepared! (Outcome up???)</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guage activiti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lection journal– question #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in Lied   </a:t>
            </a:r>
            <a:endParaRPr b="0" lang="en-US" sz="4400" spc="-1" strike="noStrike">
              <a:solidFill>
                <a:srgbClr val="ffffcc"/>
              </a:solidFill>
              <a:latin typeface="Arial"/>
            </a:endParaRPr>
          </a:p>
        </p:txBody>
      </p:sp>
      <p:sp>
        <p:nvSpPr>
          <p:cNvPr id="196" name="Music"/>
          <p:cNvSpPr/>
          <p:nvPr/>
        </p:nvSpPr>
        <p:spPr>
          <a:xfrm rot="1157400">
            <a:off x="5819760" y="558720"/>
            <a:ext cx="954000" cy="928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rot="484200">
            <a:off x="1752480" y="1752120"/>
            <a:ext cx="6859800" cy="4496040"/>
          </a:xfrm>
          <a:prstGeom prst="wedgeEllipseCallout">
            <a:avLst>
              <a:gd name="adj1" fmla="val -61495"/>
              <a:gd name="adj2" fmla="val 13291"/>
            </a:avLst>
          </a:prstGeom>
          <a:solidFill>
            <a:srgbClr val="ff9933"/>
          </a:solidFill>
          <a:ln w="9360">
            <a:solidFill>
              <a:srgbClr val="c7510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1,2,3,4,5,6,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In der Schule wird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geschrieben</a:t>
            </a:r>
            <a:r>
              <a:rPr b="0" lang="en-US" sz="2400" spc="-1" strike="noStrike">
                <a:solidFill>
                  <a:srgbClr val="6221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In der Schule wird gelach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Bis der Lehe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         </a:t>
            </a:r>
            <a:r>
              <a:rPr b="0" lang="en-US" sz="2800" spc="-1" strike="noStrike">
                <a:solidFill>
                  <a:srgbClr val="622100"/>
                </a:solidFill>
                <a:latin typeface="Arial"/>
              </a:rPr>
              <a:t>Pitch-Patsch macht!!!</a:t>
            </a:r>
            <a:endParaRPr b="0" lang="en-US" sz="2800" spc="-1" strike="noStrike">
              <a:solidFill>
                <a:srgbClr val="ffffff"/>
              </a:solidFill>
              <a:latin typeface="Times New Roman"/>
            </a:endParaRPr>
          </a:p>
        </p:txBody>
      </p:sp>
      <p:sp>
        <p:nvSpPr>
          <p:cNvPr id="198" name=""/>
          <p:cNvSpPr/>
          <p:nvPr/>
        </p:nvSpPr>
        <p:spPr>
          <a:xfrm>
            <a:off x="533520" y="6095880"/>
            <a:ext cx="3047760" cy="381240"/>
          </a:xfrm>
          <a:prstGeom prst="rect">
            <a:avLst/>
          </a:prstGeom>
          <a:solidFill>
            <a:srgbClr val="ff9933"/>
          </a:solidFill>
          <a:ln w="9360">
            <a:solidFill>
              <a:srgbClr val="6221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 Katrina Griff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rot="21202800">
            <a:off x="3885840" y="685440"/>
            <a:ext cx="2438280" cy="2120760"/>
          </a:xfrm>
          <a:prstGeom prst="rect">
            <a:avLst/>
          </a:prstGeom>
          <a:ln w="0">
            <a:noFill/>
          </a:ln>
        </p:spPr>
      </p:pic>
      <p:sp>
        <p:nvSpPr>
          <p:cNvPr id="200" name=""/>
          <p:cNvSpPr/>
          <p:nvPr/>
        </p:nvSpPr>
        <p:spPr>
          <a:xfrm>
            <a:off x="1447920" y="32004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Lunch in the cafeteria</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Bis halb ein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a:t>
            </a:r>
            <a:r>
              <a:rPr b="1" lang="es-ES" sz="3600" spc="-1" strike="noStrike">
                <a:solidFill>
                  <a:srgbClr val="fadf6c"/>
                </a:solidFill>
                <a:latin typeface="Bradley Hand ITC"/>
              </a:rPr>
              <a:t>Hasta las doce y media</a:t>
            </a:r>
            <a:r>
              <a:rPr b="1" lang="en-US" sz="3600" spc="-1" strike="noStrike">
                <a:solidFill>
                  <a:srgbClr val="fadf6c"/>
                </a:solidFill>
                <a:latin typeface="Bradley Hand ITC"/>
              </a:rPr>
              <a:t>!</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À</a:t>
            </a:r>
            <a:r>
              <a:rPr b="1" lang="fr-CA" sz="3600" spc="-1" strike="noStrike">
                <a:solidFill>
                  <a:srgbClr val="fadf6c"/>
                </a:solidFill>
                <a:latin typeface="Bradley Hand ITC"/>
              </a:rPr>
              <a:t> midi et dem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00:10:39Z</dcterms:created>
  <dc:creator>AACPS-Model</dc:creator>
  <dc:description/>
  <dc:language>en-US</dc:language>
  <cp:lastModifiedBy>OEM</cp:lastModifiedBy>
  <dcterms:modified xsi:type="dcterms:W3CDTF">2007-08-21T00:39:12Z</dcterms:modified>
  <cp:revision>80</cp:revision>
  <dc:subject/>
  <dc:title>    Bienvenidos        Bienvenue      Wilkommen       Welcome</dc:title>
</cp:coreProperties>
</file>